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DC1-C6A6-4089-B001-75FFBC9B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BB8-0978-4727-81D0-516205A1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083-3116-4421-8460-FAAB245C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4F5-FC95-40D5-A293-D384AF6E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10BF-FF0E-406C-8F2F-35698BCE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939-540C-45AD-BEFF-EF4D139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D13-C26F-4A63-B08A-E9B033AF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43C4-2E03-49CD-B16E-AF8EF0D3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1224-4568-4AAC-B93E-9F250DB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E4BF-E83F-44EF-A753-BFC3A99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B6EA-49AC-4B10-B163-911F0DF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4ED-73D4-419A-BED0-AA37EB8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2C0F-8103-44D7-8202-3ADB05CE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5BC8-3D86-45AB-8EE7-7E481A0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3868-32DF-421C-904C-4A67C08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EA91-AE21-4B19-9F5D-49D46655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09F3-D85C-41F5-A30D-69C27463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605-52D1-436B-BF26-FFED014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B28-BCCC-4383-AC6A-C9D816E5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604-649D-4721-995E-B42783F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0A6-0C91-4EF4-9D65-FBEE163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0D3-7E73-47B3-A619-C528E17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7F2-262B-4D80-B6CF-7D84AA5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ACB-876C-4A78-A07A-CBCF8BF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669-E619-4C99-8AB5-A2B978EC7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934-DCD9-4D4A-B384-4EE14FC717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584280" y="3657600"/>
            <a:ext cx="8381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Swis721 BlkEx BT"/>
              </a:rPr>
              <a:t>Cognitive Self-Chang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Swis721 BlkEx BT"/>
              </a:rPr>
              <a:t> </a:t>
            </a:r>
            <a:r>
              <a:rPr b="0" lang="en-US" sz="4800" spc="-1" strike="noStrike">
                <a:solidFill>
                  <a:srgbClr val="002060"/>
                </a:solidFill>
                <a:latin typeface="Swis721 BlkEx BT"/>
              </a:rPr>
              <a:t>Thinking Check-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23A-3C31-42DF-B5C2-06FC20515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Cognitive  Self  Change  Ste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Recognize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Use New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0" t="0" r="20000" b="0"/>
          <a:stretch/>
        </p:blipFill>
        <p:spPr>
          <a:xfrm>
            <a:off x="4267080" y="3886200"/>
            <a:ext cx="3503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2F2-BC07-41F1-8A86-AE38481704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773c"/>
                </a:solidFill>
                <a:latin typeface="Tahoma"/>
                <a:ea typeface="Tahoma"/>
              </a:rPr>
              <a:t>Thinking Check-I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1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ef report of the situ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2 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ef report of the thoughts, feelings, attitudes and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Identify the risk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ose thou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ing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Find new thi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rcRect l="0" t="0" r="59448" b="0"/>
          <a:stretch/>
        </p:blipFill>
        <p:spPr>
          <a:xfrm flipH="1">
            <a:off x="6477120" y="1447920"/>
            <a:ext cx="22860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EFA1-7677-49B3-9C76-206A38A57B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Cognitive  Self  Change  Ste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Recognize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Use New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0" t="0" r="20000" b="0"/>
          <a:stretch/>
        </p:blipFill>
        <p:spPr>
          <a:xfrm>
            <a:off x="4267080" y="3886200"/>
            <a:ext cx="3503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C:\Documents and Settings\BOP37837\Local Settings\Temporary Internet Files\Content.IE5\92NO5SJ1\MP900439393[1].jpg"/>
          <p:cNvPicPr/>
          <p:nvPr/>
        </p:nvPicPr>
        <p:blipFill>
          <a:blip r:embed="rId1"/>
          <a:srcRect l="27430" t="0" r="0" b="0"/>
          <a:stretch/>
        </p:blipFill>
        <p:spPr>
          <a:xfrm>
            <a:off x="6400800" y="480060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C760-721B-4634-8886-E1FD18B98D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situations where you feel some degree of tension or stress o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ts val="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ts val="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thinking report on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focus on the thoughts, feelings, attitudes and belief that led up to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new thinking that could reduce your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7"/>
          <p:cNvSpPr/>
          <p:nvPr/>
        </p:nvSpPr>
        <p:spPr>
          <a:xfrm>
            <a:off x="3048120" y="990720"/>
            <a:ext cx="914400" cy="91440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Program Files\Microsoft Office\MEDIA\OFFICE12\Lines\BD10219_.gif"/>
          <p:cNvPicPr/>
          <p:nvPr/>
        </p:nvPicPr>
        <p:blipFill>
          <a:blip r:embed="rId2"/>
          <a:stretch/>
        </p:blipFill>
        <p:spPr>
          <a:xfrm>
            <a:off x="685800" y="914400"/>
            <a:ext cx="593424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21:52:41Z</dcterms:modified>
  <cp:revision>75</cp:revision>
  <dc:subject/>
  <dc:title>Paying Attention To Our Thinking</dc:title>
</cp:coreProperties>
</file>