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34E-EFD7-4A82-A527-ECBFFFBF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C01-B150-4935-B1FF-080D5A7D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A26-8984-47F3-8606-9C36512D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F97-4A94-4E80-A5A1-73F80EBA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705C-9980-42E9-B732-670E352B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C334-BCD3-44F8-94DE-1ADCC78B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0B11-6EC4-44CA-B8E3-473459E0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1614-656F-4136-BAEC-C284B457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259A-32CF-4ABE-98D9-E3AD4BFB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EC37-437B-4597-963F-2F2784A0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0EC5-E54E-4236-AF7C-B88EDC9B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4BF-6538-4A4F-BFF0-6A1B15F3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8398-B345-4873-979D-69CAF491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3EBB-C53A-4C81-B284-A9425708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7B43-14F3-418F-AD34-3A9A8F95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3A8E-9476-4668-ABD3-3FE84A80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F5EF-4FAD-49EC-87B2-3B818CAB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364-08CF-4A4E-A371-FFDD4A93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E8C-F907-4434-AAF8-23AD8190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6A0-5DA0-41A0-B5B6-E9E203C4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615-F887-4988-B4CC-BA35EB0D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365-58FD-4474-9621-9A7EFEE2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9DF-FDEE-4D6D-9B21-030304D2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343-C6A3-484C-9931-FF81CDEE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7B30-7CD4-4163-A859-9C9D933D01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8501-C221-4C15-A54D-048AFD90E7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2"/>
          <a:stretch/>
        </p:blipFill>
        <p:spPr>
          <a:xfrm>
            <a:off x="603360" y="1798560"/>
            <a:ext cx="6851520" cy="217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990720" y="350532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ocial Ski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Responding to 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0E9A-F5D2-4894-8F1B-87B93A57C5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ahoma"/>
              </a:rPr>
              <a:t>Apologizing – Definition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ay for 1 person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another person or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of individuals tha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or she is sorry for, 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rets something he 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did, said, or ma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pp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rcRect l="50733" t="0" r="0" b="0"/>
          <a:stretch/>
        </p:blipFill>
        <p:spPr>
          <a:xfrm flipH="1">
            <a:off x="6248160" y="2743200"/>
            <a:ext cx="25146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3F23-1CBC-4C9D-8A72-3B6265ED26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ahoma"/>
              </a:rPr>
              <a:t>Apologizing – Skill Step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Decide if it would be best for you to apologize for something you said or d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Think of the differ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ys you could apolog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Choose the best time and place to apolog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 Make your ap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1803-07AE-4E10-A13E-DD1994DD35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Homework Review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2" name="Pentagon 10"/>
          <p:cNvGrpSpPr/>
          <p:nvPr/>
        </p:nvGrpSpPr>
        <p:grpSpPr>
          <a:xfrm>
            <a:off x="5052960" y="5151600"/>
            <a:ext cx="3919680" cy="1126800"/>
            <a:chOff x="5052960" y="5151600"/>
            <a:chExt cx="3919680" cy="1126800"/>
          </a:xfrm>
        </p:grpSpPr>
        <p:pic>
          <p:nvPicPr>
            <p:cNvPr id="113" name="Pentagon 10" descr=""/>
            <p:cNvPicPr/>
            <p:nvPr/>
          </p:nvPicPr>
          <p:blipFill>
            <a:blip r:embed="rId1"/>
            <a:stretch/>
          </p:blipFill>
          <p:spPr>
            <a:xfrm>
              <a:off x="5052960" y="5151600"/>
              <a:ext cx="391968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105520" y="5181480"/>
              <a:ext cx="35557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6324480" y="4724280"/>
            <a:ext cx="2286000" cy="17924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685800" y="1523880"/>
            <a:ext cx="80773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situation where you practiced th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“when you did the skill, where, and with wh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inking check-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homework 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your answer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questions 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 sec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A8E1-A8C7-4B37-907E-BCEE420D45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Pentagon 10"/>
          <p:cNvGrpSpPr/>
          <p:nvPr/>
        </p:nvGrpSpPr>
        <p:grpSpPr>
          <a:xfrm>
            <a:off x="5052960" y="5151600"/>
            <a:ext cx="3919680" cy="1126800"/>
            <a:chOff x="5052960" y="5151600"/>
            <a:chExt cx="3919680" cy="1126800"/>
          </a:xfrm>
        </p:grpSpPr>
        <p:pic>
          <p:nvPicPr>
            <p:cNvPr id="119" name="Pentagon 10" descr=""/>
            <p:cNvPicPr/>
            <p:nvPr/>
          </p:nvPicPr>
          <p:blipFill>
            <a:blip r:embed="rId1"/>
            <a:stretch/>
          </p:blipFill>
          <p:spPr>
            <a:xfrm>
              <a:off x="5052960" y="5151600"/>
              <a:ext cx="391968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105520" y="5181480"/>
              <a:ext cx="35557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6324480" y="4724280"/>
            <a:ext cx="2286000" cy="1792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</a:rPr>
              <a:t>Home Work Review cont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9144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do to follow each step of the skill?  B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other situation where you will use the skill ag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BB56-19F1-42F0-A9FA-8F65FD9C9E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ahoma"/>
              </a:rPr>
              <a:t>Responding to Anger - Definitio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way to learn how to identif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other person is ang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to react to that person by expressing your thoughts, feelings, attitudes and beliefs, without hurting yourself or oth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5029200" y="4834080"/>
            <a:ext cx="1655640" cy="2023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 flipH="1">
            <a:off x="6629040" y="4114800"/>
            <a:ext cx="204948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4B50-BAFE-4D6F-B3EB-7416BEABFA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ahoma"/>
              </a:rPr>
              <a:t>Responding to Anger 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Listen to the other person who is ang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Try to understand what the angry person is saying and fe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Ask the other person to explain anything you don’t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Show that you understand w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person feels ang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In a pro-social way, express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ts and feelings abou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0" t="0" r="34816" b="0"/>
          <a:stretch/>
        </p:blipFill>
        <p:spPr>
          <a:xfrm flipH="1">
            <a:off x="6629400" y="3951360"/>
            <a:ext cx="182880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16:00:05Z</dcterms:modified>
  <cp:revision>80</cp:revision>
  <dc:subject/>
  <dc:title>Paying Attention To Our Thinking</dc:title>
</cp:coreProperties>
</file>