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aymans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0-11-14T12:04:34.390000000" idx="1">
    <p:pos x="4755" y="1248"/>
    <p:text>Need a picture of a person on a mountain top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26C-971F-43A4-B924-31E67C79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30A-653A-477B-B496-7789FBD7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A7B-12C1-4C93-B4DA-59F48D5D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F4D-A50D-4CA8-80B2-B7630F6B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7571-87CD-411F-A4A3-903BB3B3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0889-9669-45D8-A48A-B9417FE8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A261-D022-46F6-929F-5972F1F3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1E81-52BC-4FC9-871A-3F85A4FE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724F-52A9-4FAE-824B-947D9CE2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0322-6D66-41AF-8C95-87C77721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6362-90AA-45C2-AC7F-0CD73459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DB4-E507-43AD-A00D-8F08776F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7AC7-3937-48B2-B7D8-012E7B6A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ADB0-E1A8-4566-B857-F9BFB15B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0F5A-0477-42B8-B053-5EB5B1E7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7459-80EB-47C2-AAFA-E98197F3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2AD6-EAD4-4829-83E4-4F7C898C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590-DF02-4121-9930-50C22D17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03E-43D7-4197-8DA7-3725E19F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176-CD27-4C88-8475-14CB3B29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99D-0B41-4A9C-BEBA-5B6DD39F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633-A483-4DE5-900B-EF4DE4DA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20A-DE40-4F21-BEAC-5D6D0F81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A24-FFC4-40A4-8CB2-AA2C0875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407C-D0FE-4637-9013-5C40114F63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E755-5287-47F9-9F25-A433EA295E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371520" y="1878120"/>
            <a:ext cx="4949640" cy="201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762120" y="37339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Problem Solving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kill 6 – Do and 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1098-B013-459C-9A74-85483D1A01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7030a0"/>
                </a:solidFill>
                <a:latin typeface="Swis721 BlkEx BT"/>
              </a:rPr>
              <a:t>Skill 5: Make a Plan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 Identify who, where and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 Choose key social skill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elp yo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 Identify what you will do/s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Identify how you will do/say i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5:  Decide on a thought to ge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BAE9-6E97-49DA-910A-4B24AE2DEC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7030a0"/>
                </a:solidFill>
                <a:latin typeface="Swis721 BlkEx BT"/>
              </a:rPr>
              <a:t>Skill 6: Do and Evaluat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 1:  Do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 2:  Ask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 3:  Decide what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rcRect l="0" t="33781" r="0" b="0"/>
          <a:stretch/>
        </p:blipFill>
        <p:spPr>
          <a:xfrm flipH="1">
            <a:off x="4876560" y="3886200"/>
            <a:ext cx="38322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9035-360A-40E7-ADAA-8A78D92C7F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Swis721 BlkEx BT"/>
              </a:rPr>
              <a:t>Step 1 – Do 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your pl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 take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36576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reeform 12"/>
          <p:cNvSpPr/>
          <p:nvPr/>
        </p:nvSpPr>
        <p:spPr>
          <a:xfrm>
            <a:off x="1589040" y="5975280"/>
            <a:ext cx="3614760" cy="730440"/>
          </a:xfrm>
          <a:custGeom>
            <a:avLst/>
            <a:gdLst/>
            <a:ahLst/>
            <a:rect l="l" t="t" r="r" b="b"/>
            <a:pathLst>
              <a:path w="3614057" h="729774">
                <a:moveTo>
                  <a:pt x="174172" y="250803"/>
                </a:moveTo>
                <a:cubicBezTo>
                  <a:pt x="351476" y="191700"/>
                  <a:pt x="285702" y="207260"/>
                  <a:pt x="631372" y="207260"/>
                </a:cubicBezTo>
                <a:cubicBezTo>
                  <a:pt x="689881" y="207260"/>
                  <a:pt x="747486" y="221774"/>
                  <a:pt x="805543" y="229031"/>
                </a:cubicBezTo>
                <a:cubicBezTo>
                  <a:pt x="860476" y="393825"/>
                  <a:pt x="822813" y="350983"/>
                  <a:pt x="1175657" y="272574"/>
                </a:cubicBezTo>
                <a:cubicBezTo>
                  <a:pt x="1201200" y="266898"/>
                  <a:pt x="1193363" y="211394"/>
                  <a:pt x="1219200" y="207260"/>
                </a:cubicBezTo>
                <a:cubicBezTo>
                  <a:pt x="1384174" y="180864"/>
                  <a:pt x="1553029" y="192745"/>
                  <a:pt x="1719943" y="185488"/>
                </a:cubicBezTo>
                <a:cubicBezTo>
                  <a:pt x="1807029" y="192745"/>
                  <a:pt x="1894579" y="218809"/>
                  <a:pt x="1981200" y="207260"/>
                </a:cubicBezTo>
                <a:cubicBezTo>
                  <a:pt x="2011720" y="203191"/>
                  <a:pt x="2018379" y="154450"/>
                  <a:pt x="2046515" y="141945"/>
                </a:cubicBezTo>
                <a:cubicBezTo>
                  <a:pt x="2086854" y="124017"/>
                  <a:pt x="2134051" y="129750"/>
                  <a:pt x="2177143" y="120174"/>
                </a:cubicBezTo>
                <a:cubicBezTo>
                  <a:pt x="2199545" y="115196"/>
                  <a:pt x="2220686" y="105660"/>
                  <a:pt x="2242457" y="98403"/>
                </a:cubicBezTo>
                <a:cubicBezTo>
                  <a:pt x="2390062" y="0"/>
                  <a:pt x="2225482" y="80691"/>
                  <a:pt x="2373086" y="98403"/>
                </a:cubicBezTo>
                <a:cubicBezTo>
                  <a:pt x="2531769" y="117445"/>
                  <a:pt x="2692400" y="112917"/>
                  <a:pt x="2852057" y="120174"/>
                </a:cubicBezTo>
                <a:cubicBezTo>
                  <a:pt x="2844800" y="141945"/>
                  <a:pt x="2821763" y="164180"/>
                  <a:pt x="2830286" y="185488"/>
                </a:cubicBezTo>
                <a:cubicBezTo>
                  <a:pt x="2851607" y="238790"/>
                  <a:pt x="3005974" y="249575"/>
                  <a:pt x="3026229" y="250803"/>
                </a:cubicBezTo>
                <a:cubicBezTo>
                  <a:pt x="3221947" y="262665"/>
                  <a:pt x="3418114" y="265317"/>
                  <a:pt x="3614057" y="272574"/>
                </a:cubicBezTo>
                <a:cubicBezTo>
                  <a:pt x="3514242" y="422298"/>
                  <a:pt x="3576619" y="386655"/>
                  <a:pt x="3461657" y="424974"/>
                </a:cubicBezTo>
                <a:cubicBezTo>
                  <a:pt x="3432629" y="454003"/>
                  <a:pt x="3407978" y="488199"/>
                  <a:pt x="3374572" y="512060"/>
                </a:cubicBezTo>
                <a:cubicBezTo>
                  <a:pt x="3357757" y="524071"/>
                  <a:pt x="3231275" y="553327"/>
                  <a:pt x="3222172" y="555603"/>
                </a:cubicBezTo>
                <a:cubicBezTo>
                  <a:pt x="2983292" y="714851"/>
                  <a:pt x="3217065" y="577374"/>
                  <a:pt x="2547257" y="577374"/>
                </a:cubicBezTo>
                <a:cubicBezTo>
                  <a:pt x="2401933" y="577374"/>
                  <a:pt x="2256972" y="591888"/>
                  <a:pt x="2111829" y="599145"/>
                </a:cubicBezTo>
                <a:cubicBezTo>
                  <a:pt x="1924968" y="661434"/>
                  <a:pt x="2222399" y="566060"/>
                  <a:pt x="1915886" y="642688"/>
                </a:cubicBezTo>
                <a:cubicBezTo>
                  <a:pt x="1808273" y="669591"/>
                  <a:pt x="1788264" y="684728"/>
                  <a:pt x="1698172" y="729774"/>
                </a:cubicBezTo>
                <a:cubicBezTo>
                  <a:pt x="1683658" y="708003"/>
                  <a:pt x="1675061" y="680806"/>
                  <a:pt x="1654629" y="664460"/>
                </a:cubicBezTo>
                <a:cubicBezTo>
                  <a:pt x="1636709" y="650124"/>
                  <a:pt x="1612237" y="643806"/>
                  <a:pt x="1589315" y="642688"/>
                </a:cubicBezTo>
                <a:cubicBezTo>
                  <a:pt x="1313776" y="629247"/>
                  <a:pt x="1037772" y="628174"/>
                  <a:pt x="762000" y="620917"/>
                </a:cubicBezTo>
                <a:cubicBezTo>
                  <a:pt x="725714" y="606403"/>
                  <a:pt x="691692" y="583799"/>
                  <a:pt x="653143" y="577374"/>
                </a:cubicBezTo>
                <a:cubicBezTo>
                  <a:pt x="559809" y="561818"/>
                  <a:pt x="459224" y="587428"/>
                  <a:pt x="370115" y="555603"/>
                </a:cubicBezTo>
                <a:cubicBezTo>
                  <a:pt x="341936" y="545539"/>
                  <a:pt x="377049" y="476960"/>
                  <a:pt x="348343" y="468517"/>
                </a:cubicBezTo>
                <a:cubicBezTo>
                  <a:pt x="236730" y="435689"/>
                  <a:pt x="116114" y="454002"/>
                  <a:pt x="0" y="446745"/>
                </a:cubicBezTo>
                <a:cubicBezTo>
                  <a:pt x="7257" y="410459"/>
                  <a:pt x="13745" y="374011"/>
                  <a:pt x="21772" y="337888"/>
                </a:cubicBezTo>
                <a:cubicBezTo>
                  <a:pt x="28263" y="308679"/>
                  <a:pt x="14388" y="257531"/>
                  <a:pt x="43543" y="250803"/>
                </a:cubicBezTo>
                <a:cubicBezTo>
                  <a:pt x="128693" y="231153"/>
                  <a:pt x="217635" y="266348"/>
                  <a:pt x="304800" y="272574"/>
                </a:cubicBezTo>
                <a:cubicBezTo>
                  <a:pt x="319277" y="273608"/>
                  <a:pt x="333829" y="272574"/>
                  <a:pt x="348343" y="272574"/>
                </a:cubicBezTo>
              </a:path>
            </a:pathLst>
          </a:custGeom>
          <a:solidFill>
            <a:srgbClr val="77773c"/>
          </a:solidFill>
          <a:ln w="9360">
            <a:solidFill>
              <a:srgbClr val="c9c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evel 7"/>
          <p:cNvSpPr/>
          <p:nvPr/>
        </p:nvSpPr>
        <p:spPr>
          <a:xfrm>
            <a:off x="685800" y="1676520"/>
            <a:ext cx="3505320" cy="213336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72880"/>
            <a:ext cx="6858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Swis721 BlkEx BT"/>
              </a:rPr>
              <a:t>Step 2 – Ask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2971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 I closer to my goa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567-2752-4C52-BD1F-AC0B65B8A4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Bevel 9"/>
          <p:cNvSpPr/>
          <p:nvPr/>
        </p:nvSpPr>
        <p:spPr>
          <a:xfrm>
            <a:off x="4572000" y="2514600"/>
            <a:ext cx="4267080" cy="350532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029200" y="3048120"/>
            <a:ext cx="35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part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 plan worked bes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rcRect l="47626" t="0" r="0" b="0"/>
          <a:stretch/>
        </p:blipFill>
        <p:spPr>
          <a:xfrm flipH="1">
            <a:off x="2590560" y="3352680"/>
            <a:ext cx="19047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4E8B-F7F3-4AEA-8115-5D1FD8621E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Swis721 BlkEx BT"/>
              </a:rPr>
              <a:t>Am I Closer to My Goal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7" descr="C:\Documents and Settings\BOP37849\Local Settings\Temporary Internet Files\Content.IE5\I3AHHN9Y\MC900040343[1].wmf"/>
          <p:cNvPicPr/>
          <p:nvPr/>
        </p:nvPicPr>
        <p:blipFill>
          <a:blip r:embed="rId1"/>
          <a:stretch/>
        </p:blipFill>
        <p:spPr>
          <a:xfrm>
            <a:off x="3429000" y="1905120"/>
            <a:ext cx="41403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Swis721 BlkEx BT"/>
              </a:rPr>
              <a:t>Step 3 – Decide what to do next</a:t>
            </a:r>
            <a:r>
              <a:rPr b="0" lang="en-US" sz="4200" spc="-1" strike="noStrike">
                <a:solidFill>
                  <a:srgbClr val="0070c0"/>
                </a:solidFill>
                <a:latin typeface="Swis721 BlkEx BT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answers from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 in Step 2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ide what to do ne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DEA5-1CAE-44E1-82C1-4B0D049B6F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352680" y="3705120"/>
            <a:ext cx="28958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AF07-73DF-4B52-BC28-46985E21F2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4800600" y="4572000"/>
            <a:ext cx="356724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736560" y="15238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2 problem situ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 identify risk thoughts, risk feelings, and risk attitudes and beliefs for each problem 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thinking report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6:48:32Z</dcterms:modified>
  <cp:revision>58</cp:revision>
  <dc:subject/>
  <dc:title>Paying Attention To Our Thinking</dc:title>
</cp:coreProperties>
</file>