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8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19D-F0C4-4D5A-ADCC-85841F1F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E83-6A0F-4AED-83B7-6DD620F8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A62-116B-4F32-888D-E5A46DDF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13A-A760-4CAE-A867-55A0F438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FFE9-ADA0-44C7-89C1-6A1A59BA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BC824-5752-4F52-9430-F4BF450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73008-10E4-491C-AFE9-3367F61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B3041-BBD1-418E-BD9F-81525BA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C760B-6C08-4C4C-A26A-843858F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45DA0-7054-4F10-AACA-77C45FB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31D9-E943-4CE6-9ABA-AD92BF8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EC62-F5BD-4AC0-AEBE-CAB2A73E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FF3B6-3B8C-40E8-971D-F034F129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BEF12-5A49-409E-92E9-6D6E4CB7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C4E-AA5D-469B-A7EE-1FD40F9F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60F5-BFDB-4236-9591-C1E95BC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FBBE7-C066-4D46-AD66-AB35F5F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562D2-7042-466D-AA3E-FF2C338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340D3-40E1-48ED-9387-A5D48048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53B6-13A2-4A56-A9D0-FE63DE7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3E1AA-3F84-49EE-9168-6A12B2F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5F228-87EE-41C9-AF41-539444A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BE3DB-55E2-477C-9AAC-8DD58AC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9926B-8C9D-48F9-A469-609DAF4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CED60-FE21-4F7B-965B-EA9C885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933-158B-4415-B5FF-4CC897DF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C15AE-DDAF-4BCE-8A3D-72E23637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C09A5-3C96-40AD-B48B-35C34685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0A7F4-1447-4ECE-9FBD-99CDD6E2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03B9A-968F-4034-A622-60A5E9E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45BA1-E10D-4770-A3DF-C3B0884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62B4-8A99-4E07-837E-9E14B817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F904-2B93-45EA-88DA-743E4776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35D7B-C305-411C-BB30-1DB14F0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56219-1764-4972-9E80-035E52E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0F7E4-CFF4-463B-B522-DACA2120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8137-417F-497A-B67E-C925B21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D60D-D345-4FD1-9EAA-4523129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CA3B4-9F92-47A3-8FE2-FC816376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FC9EC-263D-4C4E-830B-1C206A66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7E248-78E7-454E-939F-6BE72B46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DC76-D554-4805-9C5E-87CDFA8A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506AC-3618-4110-80B9-8D80224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BD6D-9944-4E90-BCB1-C61C394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40FC9-AF46-4AEA-8C85-8279980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AD240-FF63-4CF4-9B19-5A7D4DA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F580A-8213-4B3E-B765-7061F38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D01-A9AA-4723-8B46-EFFEBFD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299C1-EB01-42AF-BB3C-165FE59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143A-8D47-457A-95A7-D96E020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98AFD-DF0C-4FE6-AC4B-8BDAC13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813D2-AA69-4C53-B8BD-1DF5B85A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3AC29-8A36-4317-B372-55DAF4CD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7FA7A-12CB-483D-AC5E-E6902815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E084B-E3F4-4862-8A2D-043995A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4BFB0-5310-40D8-8138-966DD62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1A7CD-4A77-42B8-A37A-5B08149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9A5A8-8D05-4315-A38C-7FEE47B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579-3CAE-436A-B753-3E6E6B6F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80FFE-F0FA-426E-8DE1-09E61633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2BCC1-F243-4A97-BC33-90226CE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44E4A-74BC-4F0B-8036-0B34C10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8DF11-1BD7-4CF0-A0A4-B6CFB0B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F86DF-ACCB-4363-AC4E-2467F44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348D0-78E9-40F3-8B1C-A4C0511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1EB2E-A716-49F8-8C36-1B7C9926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7771A-5B6D-4D22-B00D-25A8826A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97256-9FC5-4300-AE35-8220E10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F830E-334E-4BB9-9517-B5B31C8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BD2-7888-4D20-99B1-CE3C44A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E6DF0-CAA5-4C54-8051-D7E3F46C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BA15C-5D45-4F05-9600-12DCE0A1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D2869-2A67-434F-990F-DCE44FC4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4E160-FDCB-44C9-8928-0F99A1D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B2768-4F54-4EE6-B85C-4C92234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6B15D-B755-4FD4-B10C-91F1CDE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E211A-6FF8-4E04-9D15-24093B69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8A512-4DA7-4635-BE60-956E9444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74D0E-B051-4F1B-84A8-057890A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B6E7F-03D6-428E-BC87-2F44F7C0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BA0C-757E-4699-85D0-89834AD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145F1-E6F4-4FA1-901D-5A5D871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1AC94-7735-4921-B13B-F391052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4BF4C-C141-4955-A3D5-D86593A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CC267-4BD2-4263-828D-C5E0427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9F9A2-A153-4CF8-A11C-FAAAB30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53772-4267-4334-B37B-247CD08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A4E42-6B91-4F04-8658-F24639A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9CCBB-0946-458A-9D9B-13DD1733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7EEC0-1EFC-492D-A3C5-97338116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36C93-9F8D-4A80-8879-B0A5910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B840-F7A0-4B4B-9877-1AAA94E7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E0DED-8FAA-43BE-8545-7347CB07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313-4E80-4CE4-BDA6-2C6C85C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D62-813F-40D0-B70B-41BE81D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FCC-0661-4883-8B3B-B4822C3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F56-7CB4-4CFE-9AF2-CE8D650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BDB-9A4A-4DC2-91A1-B22C44D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8A2-69DB-423F-878F-A956FC7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4B17-DD9B-481D-9F13-353DF38F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5720-68C9-4D1C-BE30-41B48A84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1246-EE53-47C5-808F-0F42DD85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06D0-5C7D-45E8-95C1-85DE1B8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FED6-49EE-4A7C-9C6D-EBA69BE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4CE3-07EC-49DA-9E5B-329AC2A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255-54FC-452D-9269-713687BF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6A3C-8D6D-43EE-8DF3-6F2BF5D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997D-F598-48F2-9428-A1200C0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9FB7-FAF2-43A1-99EF-EA1EB3EB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4026-3037-477D-B8AA-3C47FCC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FBBE-32B4-4E33-A848-066805A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67D0-804F-452B-850F-E8F84C43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58A0-6294-440A-B748-F6C3C9F7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D10C-C432-4221-8D6D-4BBF07AC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8371-3961-40FF-9EE3-9F13F08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B239-8514-4F4D-9BBC-51675FE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F9D-5572-4123-9D99-704B580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5111-FF26-45BE-BD4A-DA690BE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60C9-5482-4C2D-A4E6-6D5E926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F03A-8E67-4D38-88BA-EBA41077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7F93-AEBA-461D-AE59-AF2F4872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644A-4668-41D2-A820-B74539C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5C3C-BC34-4CC6-94EA-D5CA58E1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CE60-7278-4E56-BF87-6259E0D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625B-BD0B-4633-8AEB-F7C6FC97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41A9-138B-4A39-A683-B836BABC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C2F50-DE87-47DD-B9EC-FCB468F4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BA5-E4C4-4B94-9337-CE648E1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41BE-16DD-4AF2-B420-E3C60160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371B-4065-4D93-944B-CF44641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EB0C-2890-418E-ABF8-F95934F9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B202-A4D3-4FFA-959D-B5C3C72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04D4-2FC5-471A-BBD3-8EB7597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DC82-78D4-41DB-9065-D008C3C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FA28-1FDA-4747-B199-5026562C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51D3-0C70-4DC7-AC2B-4083FEC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F2240-5B0C-473E-8DAB-1CC214B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1E1F-9DE9-4B96-9AAF-FB477C44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FB9-568D-4199-A52B-0A3BE96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C4D5-DC79-44DC-89E2-0D41B864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9DC08-91E1-4A49-96DF-13614EA5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F70F-5DAF-4B0B-9FF8-7C6E90B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93CB-EFC8-4476-AB8A-9A34539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43CA-3F4B-44FA-98BC-1DCCAF5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F626-79D5-49CF-929B-77C8F88E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3E5C4-4216-478A-939C-830EAA5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D503-9A23-41F9-A211-1D3636F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B693-5487-434E-A8D0-F484A68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A9C9-F539-49A1-BF55-2ECEA7D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A58-1FD6-4132-B1E9-217CF02C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E0DD-6594-4537-8C86-0F5906F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6942-324B-4293-87E5-160BB75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DA8BD-879A-4E17-BC1D-E7EA819B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DCA5-7FCC-4020-AED2-DB63481E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4F069-E920-48FE-9E20-71AE72E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A884-498A-4CEF-BCB1-F980A24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A4240-722A-439A-A594-07DDE84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3233-5DB0-4755-A41F-72E09EF8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54AA-C313-4325-AAB5-3BB91DFD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237D4-97A7-48A9-9400-E9F3A4C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7C9-26F8-491E-9922-BF2479C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B92C-51C8-41A1-BDA5-BEAD550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CEC4-A4B3-478F-85E3-616D5D6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66F6-3C9D-4E02-B448-24CE81C7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2D3E-C4F9-4977-8767-3505FC06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D45A-E08B-4358-A5B4-92438FA5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A1D4-BB8E-4EEE-B0D2-41BA91FA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B069C-8630-4512-9C24-56EC29B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2EEF-8FBF-46D1-B304-CE6818E3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E4DFA-54BA-471F-B31C-4B6D04D3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BA38-2ACA-4E7B-A149-B4DA95E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025-F78C-456F-83D4-E1C3E3B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AFBE-AC60-4A41-9B3E-39610A05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DC56-8B7B-4549-8BDF-C69137E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56D8-A753-4721-B7CB-69C5D62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2DA2-7379-4A74-8DD0-473AF7A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AE6CC-8406-4A9B-8392-192CFF6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82E7-F6DC-4159-92D7-DB44C9F3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D807-91A3-4D67-9889-B98DB088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87FA-C1FC-40E0-B7B1-CD272D43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36590-9BC6-4F1D-8802-AC8BE559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6F85-7C25-4220-B879-03CF7E1F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0C7-E95E-4796-95D1-74CFBBC597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3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3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F88-1E93-4557-B40D-128282E58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69EE-EBF0-45B6-8A28-1007C15CAF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7797-B927-436B-A738-768100AEBF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7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7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BE7-154C-49D6-9C0E-0282C5161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2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8B6-8E94-4372-976E-35BD63B532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6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6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C71-D032-4454-A3B1-C272BEC634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E52C-71E8-4C50-8DC1-2A76F82BF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267-6406-4571-8866-41ACA5E72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99C-CCE2-4823-9A24-D3CBB779EC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7FF-10D1-479C-A2ED-1DA421E76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30D-116F-4F75-AF28-34CE35945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DCA-FBC1-4934-A3B2-DF601C74D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B4F-8E78-4AB6-9954-91179667E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36F-77C0-40DE-9582-607C44F4B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721" name="TextBox 6"/>
          <p:cNvSpPr/>
          <p:nvPr/>
        </p:nvSpPr>
        <p:spPr>
          <a:xfrm>
            <a:off x="762120" y="33526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Thinking Controls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723" name="Rectangle 3" descr=""/>
          <p:cNvPicPr/>
          <p:nvPr/>
        </p:nvPicPr>
        <p:blipFill>
          <a:blip r:embed="rId4"/>
          <a:stretch/>
        </p:blipFill>
        <p:spPr>
          <a:xfrm>
            <a:off x="298440" y="1725480"/>
            <a:ext cx="570564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12BA-8677-474A-A5D2-F7D5D3315C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3 Steps of </a:t>
            </a:r>
            <a:br>
              <a:rPr sz="4200"/>
            </a:b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Cognitive Self Chan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:\Documents and Settings\BOP37837\Local Settings\Temporary Internet Files\Content.IE5\92NO5SJ1\MP900439332[1].jpg"/>
          <p:cNvPicPr/>
          <p:nvPr/>
        </p:nvPicPr>
        <p:blipFill>
          <a:blip r:embed="rId1"/>
          <a:stretch/>
        </p:blipFill>
        <p:spPr>
          <a:xfrm>
            <a:off x="2590920" y="3809880"/>
            <a:ext cx="4114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358-1007-4B17-9C40-24336FA470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Principles Behind </a:t>
            </a:r>
            <a:br>
              <a:rPr sz="4200"/>
            </a:b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Thinking For a Chan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ways more than one way of thinking about any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0" y="4795920"/>
            <a:ext cx="8077320" cy="228852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Arial"/>
              </a:rPr>
              <a:t>WHEN WE THINK DIFFERENT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Arial"/>
              </a:rPr>
              <a:t>WE ACT DIFFERE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Left-Right-Up Arrow 5"/>
          <p:cNvGrpSpPr/>
          <p:nvPr/>
        </p:nvGrpSpPr>
        <p:grpSpPr>
          <a:xfrm>
            <a:off x="2382840" y="3249720"/>
            <a:ext cx="4456080" cy="1633320"/>
            <a:chOff x="2382840" y="3249720"/>
            <a:chExt cx="4456080" cy="1633320"/>
          </a:xfrm>
        </p:grpSpPr>
        <p:pic>
          <p:nvPicPr>
            <p:cNvPr id="776" name="Left-Right-Up Arrow 5" descr=""/>
            <p:cNvPicPr/>
            <p:nvPr/>
          </p:nvPicPr>
          <p:blipFill>
            <a:blip r:embed="rId1"/>
            <a:stretch/>
          </p:blipFill>
          <p:spPr>
            <a:xfrm>
              <a:off x="2382840" y="3249720"/>
              <a:ext cx="44560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 rot="10800000">
              <a:off x="2629080" y="3467160"/>
              <a:ext cx="396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8" descr=""/>
          <p:cNvPicPr/>
          <p:nvPr/>
        </p:nvPicPr>
        <p:blipFill>
          <a:blip r:embed="rId2"/>
          <a:srcRect l="52035" t="0" r="0" b="0"/>
          <a:stretch/>
        </p:blipFill>
        <p:spPr>
          <a:xfrm>
            <a:off x="7010280" y="3809880"/>
            <a:ext cx="1447920" cy="20480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"/>
          <p:cNvPicPr/>
          <p:nvPr/>
        </p:nvPicPr>
        <p:blipFill>
          <a:blip r:embed="rId3"/>
          <a:srcRect l="0" t="0" r="52035" b="0"/>
          <a:stretch/>
        </p:blipFill>
        <p:spPr>
          <a:xfrm>
            <a:off x="685800" y="3733920"/>
            <a:ext cx="1447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Rounded Rectangle 7"/>
          <p:cNvGrpSpPr/>
          <p:nvPr/>
        </p:nvGrpSpPr>
        <p:grpSpPr>
          <a:xfrm>
            <a:off x="963720" y="4998960"/>
            <a:ext cx="4705200" cy="517680"/>
            <a:chOff x="963720" y="4998960"/>
            <a:chExt cx="4705200" cy="517680"/>
          </a:xfrm>
        </p:grpSpPr>
        <p:pic>
          <p:nvPicPr>
            <p:cNvPr id="781" name="Rounded Rectangle 7" descr=""/>
            <p:cNvPicPr/>
            <p:nvPr/>
          </p:nvPicPr>
          <p:blipFill>
            <a:blip r:embed="rId1"/>
            <a:stretch/>
          </p:blipFill>
          <p:spPr>
            <a:xfrm>
              <a:off x="963720" y="4998960"/>
              <a:ext cx="4705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1012680" y="5051520"/>
              <a:ext cx="460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37E-386B-406F-A136-644DDA972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Goal of </a:t>
            </a:r>
            <a:br>
              <a:rPr sz="4200"/>
            </a:b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Thinking For A Chan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 Attention To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You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Rounded Rectangle 9"/>
          <p:cNvGrpSpPr/>
          <p:nvPr/>
        </p:nvGrpSpPr>
        <p:grpSpPr>
          <a:xfrm>
            <a:off x="1878120" y="5456160"/>
            <a:ext cx="4705200" cy="517680"/>
            <a:chOff x="1878120" y="5456160"/>
            <a:chExt cx="4705200" cy="517680"/>
          </a:xfrm>
        </p:grpSpPr>
        <p:pic>
          <p:nvPicPr>
            <p:cNvPr id="78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878120" y="5456160"/>
              <a:ext cx="4705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1927080" y="5508720"/>
              <a:ext cx="460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Rounded Rectangle 10"/>
          <p:cNvGrpSpPr/>
          <p:nvPr/>
        </p:nvGrpSpPr>
        <p:grpSpPr>
          <a:xfrm>
            <a:off x="2865600" y="5840280"/>
            <a:ext cx="4705200" cy="511200"/>
            <a:chOff x="2865600" y="5840280"/>
            <a:chExt cx="4705200" cy="511200"/>
          </a:xfrm>
        </p:grpSpPr>
        <p:pic>
          <p:nvPicPr>
            <p:cNvPr id="79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865600" y="5840280"/>
              <a:ext cx="47052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2917800" y="5889600"/>
              <a:ext cx="46036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5" descr=""/>
          <p:cNvPicPr/>
          <p:nvPr/>
        </p:nvPicPr>
        <p:blipFill>
          <a:blip r:embed="rId4"/>
          <a:stretch/>
        </p:blipFill>
        <p:spPr>
          <a:xfrm>
            <a:off x="4952880" y="3200400"/>
            <a:ext cx="2760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5562720" y="3886200"/>
            <a:ext cx="3041640" cy="25146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7C8-DA87-4DFB-8BFF-1A2889571F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 situation when you had a conflict with anoth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your thoughts and feelings at the beginning of the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your thou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eel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1758-394E-435B-8C67-99A2185BB7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ttitudes and beliefs were a part of your thinking in these situ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all the thoughts, feelings,                             attitudes and beliefs you can remember having during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914400" y="4343400"/>
            <a:ext cx="4273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D18A-C57C-401C-8F5B-4A3760F2F7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7b00"/>
                </a:solidFill>
                <a:latin typeface="Tahoma"/>
                <a:ea typeface="Tahoma"/>
              </a:rPr>
              <a:t>Knowing Your Feelings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26" name="Picture 5" descr="C:\Documents and Settings\BOP37837\Local Settings\Temporary Internet Files\Content.IE5\LT4FLO8V\MC900447091[1].jpg"/>
          <p:cNvPicPr/>
          <p:nvPr/>
        </p:nvPicPr>
        <p:blipFill>
          <a:blip r:embed="rId1"/>
          <a:srcRect l="39999" t="0" r="0" b="49384"/>
          <a:stretch/>
        </p:blipFill>
        <p:spPr>
          <a:xfrm>
            <a:off x="2362320" y="4724280"/>
            <a:ext cx="4267080" cy="190512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Tune in to what is going on in your body that helps you know what you are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cide what happened to make you feel tha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Decide what you could call the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F57-2118-4469-A57E-7CDFE562B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 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you practice the skill?  Where?  With wh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nother situation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sk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732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4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9A7-599D-4E3C-A6DB-488C9E685C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77773c"/>
                </a:solidFill>
                <a:latin typeface="Tahoma"/>
                <a:ea typeface="Tahoma"/>
              </a:rPr>
              <a:t>Thinking Controls Behavior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33160" y="121932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s / feelings control the way we 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ontrol how we act by controlling our ways of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ook at the thoughts and feelings we have in a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6" descr="C:\Documents and Settings\BOP37837\Local Settings\Temporary Internet Files\Content.IE5\LT4FLO8V\MM900234755[1].gif"/>
          <p:cNvPicPr/>
          <p:nvPr/>
        </p:nvPicPr>
        <p:blipFill>
          <a:blip r:embed="rId1"/>
          <a:stretch/>
        </p:blipFill>
        <p:spPr>
          <a:xfrm>
            <a:off x="3917880" y="4419720"/>
            <a:ext cx="36259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6D3-3193-450F-A7E8-899C75F61B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Step 1 – Pay Attention </a:t>
            </a:r>
            <a:br>
              <a:rPr sz="4200"/>
            </a:b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       to Our Thinking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oughts and feelings as pure information without judgment or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6" descr="C:\Documents and Settings\BOP37837\Local Settings\Temporary Internet Files\Content.IE5\LT4FLO8V\MM900234755[1].gif"/>
          <p:cNvPicPr/>
          <p:nvPr/>
        </p:nvPicPr>
        <p:blipFill>
          <a:blip r:embed="rId1"/>
          <a:stretch/>
        </p:blipFill>
        <p:spPr>
          <a:xfrm>
            <a:off x="3581280" y="3886200"/>
            <a:ext cx="403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772-5F7C-46CF-9315-618920E38A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10061"/>
                </a:solidFill>
                <a:latin typeface="Tahoma"/>
                <a:ea typeface="Tahoma"/>
              </a:rPr>
              <a:t>Attitudes and Belief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ays of thinking about a lot of different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, principles, values, or general opinions about a kind of person or a kind of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xpress the values and the principles you live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 and beliefs define the things that matter most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8"/>
          <p:cNvSpPr/>
          <p:nvPr/>
        </p:nvSpPr>
        <p:spPr>
          <a:xfrm>
            <a:off x="5029200" y="1371600"/>
            <a:ext cx="3657600" cy="5105520"/>
          </a:xfrm>
          <a:prstGeom prst="rect">
            <a:avLst/>
          </a:prstGeom>
          <a:gradFill rotWithShape="0">
            <a:gsLst>
              <a:gs pos="0">
                <a:srgbClr val="e7e7bc"/>
              </a:gs>
              <a:gs pos="100000">
                <a:srgbClr val="f7f7ea"/>
              </a:gs>
            </a:gsLst>
            <a:lin ang="162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457200" y="1295280"/>
            <a:ext cx="4343400" cy="4953240"/>
          </a:xfrm>
          <a:prstGeom prst="rect">
            <a:avLst/>
          </a:prstGeom>
          <a:gradFill rotWithShape="0">
            <a:gsLst>
              <a:gs pos="0">
                <a:srgbClr val="e7e7bc"/>
              </a:gs>
              <a:gs pos="100000">
                <a:srgbClr val="f7f7ea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034-58A2-409C-8F67-BB2BF67D6C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0061"/>
                </a:solidFill>
                <a:latin typeface="Tahoma"/>
                <a:ea typeface="Tahoma"/>
              </a:rPr>
              <a:t>Kinds of Attitudes and Belief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the most important thing in m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stand up for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05520" y="4419360"/>
            <a:ext cx="350496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eachers are un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arents are almost alway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762120" y="1600200"/>
            <a:ext cx="3733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values and the principles we live by – defining what matters most to 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5257800" y="1523880"/>
            <a:ext cx="327672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s or general ways of thinking about the people and the situations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Swis721 BlkEx BT"/>
              </a:rPr>
              <a:t>Cognitive Restructuring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5" name="AutoShape 87"/>
          <p:cNvSpPr/>
          <p:nvPr/>
        </p:nvSpPr>
        <p:spPr>
          <a:xfrm>
            <a:off x="457200" y="838080"/>
            <a:ext cx="8229600" cy="586764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5"/>
          <p:cNvSpPr/>
          <p:nvPr/>
        </p:nvSpPr>
        <p:spPr>
          <a:xfrm>
            <a:off x="3505320" y="2109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0"/>
          <p:cNvSpPr/>
          <p:nvPr/>
        </p:nvSpPr>
        <p:spPr>
          <a:xfrm>
            <a:off x="2286000" y="4572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udes/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01"/>
          <p:cNvSpPr/>
          <p:nvPr/>
        </p:nvSpPr>
        <p:spPr>
          <a:xfrm flipH="1" rot="18336000">
            <a:off x="-413640" y="4838400"/>
            <a:ext cx="33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3"/>
          <p:cNvSpPr/>
          <p:nvPr/>
        </p:nvSpPr>
        <p:spPr>
          <a:xfrm flipH="1" rot="18255600">
            <a:off x="2053800" y="2085120"/>
            <a:ext cx="21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07"/>
          <p:cNvSpPr/>
          <p:nvPr/>
        </p:nvSpPr>
        <p:spPr>
          <a:xfrm>
            <a:off x="685800" y="3048120"/>
            <a:ext cx="8458200" cy="96516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5328" h="608">
                <a:moveTo>
                  <a:pt x="0" y="544"/>
                </a:moveTo>
                <a:cubicBezTo>
                  <a:pt x="224" y="348"/>
                  <a:pt x="448" y="152"/>
                  <a:pt x="576" y="160"/>
                </a:cubicBezTo>
                <a:cubicBezTo>
                  <a:pt x="704" y="168"/>
                  <a:pt x="688" y="576"/>
                  <a:pt x="768" y="592"/>
                </a:cubicBezTo>
                <a:cubicBezTo>
                  <a:pt x="848" y="608"/>
                  <a:pt x="984" y="264"/>
                  <a:pt x="1056" y="256"/>
                </a:cubicBezTo>
                <a:cubicBezTo>
                  <a:pt x="1128" y="248"/>
                  <a:pt x="1104" y="568"/>
                  <a:pt x="1200" y="544"/>
                </a:cubicBezTo>
                <a:cubicBezTo>
                  <a:pt x="1296" y="520"/>
                  <a:pt x="1408" y="112"/>
                  <a:pt x="1632" y="112"/>
                </a:cubicBezTo>
                <a:cubicBezTo>
                  <a:pt x="1856" y="112"/>
                  <a:pt x="2344" y="552"/>
                  <a:pt x="2544" y="544"/>
                </a:cubicBezTo>
                <a:cubicBezTo>
                  <a:pt x="2744" y="536"/>
                  <a:pt x="2744" y="128"/>
                  <a:pt x="2832" y="64"/>
                </a:cubicBezTo>
                <a:cubicBezTo>
                  <a:pt x="2920" y="0"/>
                  <a:pt x="2992" y="96"/>
                  <a:pt x="3072" y="160"/>
                </a:cubicBezTo>
                <a:cubicBezTo>
                  <a:pt x="3152" y="224"/>
                  <a:pt x="3192" y="464"/>
                  <a:pt x="3312" y="448"/>
                </a:cubicBezTo>
                <a:cubicBezTo>
                  <a:pt x="3432" y="432"/>
                  <a:pt x="3680" y="48"/>
                  <a:pt x="3792" y="64"/>
                </a:cubicBezTo>
                <a:cubicBezTo>
                  <a:pt x="3904" y="80"/>
                  <a:pt x="3864" y="536"/>
                  <a:pt x="3984" y="544"/>
                </a:cubicBezTo>
                <a:cubicBezTo>
                  <a:pt x="4104" y="552"/>
                  <a:pt x="4360" y="120"/>
                  <a:pt x="4512" y="112"/>
                </a:cubicBezTo>
                <a:cubicBezTo>
                  <a:pt x="4664" y="104"/>
                  <a:pt x="4760" y="480"/>
                  <a:pt x="4896" y="496"/>
                </a:cubicBezTo>
                <a:cubicBezTo>
                  <a:pt x="5032" y="512"/>
                  <a:pt x="5256" y="256"/>
                  <a:pt x="5328" y="2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BDDC-346D-4EFB-8CC0-A8FF8D7066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The Cognitive Principle - </a:t>
            </a:r>
            <a:r>
              <a:rPr b="1" i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Thinking controls behavi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0" y="16002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rning to control thoughts and feelings can contro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0" y="2895480"/>
            <a:ext cx="7315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is always more than 1 way of thinking about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rol of thinking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real power ov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304920" y="534996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When we think different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we act differe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8" descr=""/>
          <p:cNvPicPr/>
          <p:nvPr/>
        </p:nvPicPr>
        <p:blipFill>
          <a:blip r:embed="rId1"/>
          <a:stretch/>
        </p:blipFill>
        <p:spPr>
          <a:xfrm>
            <a:off x="6400800" y="3429000"/>
            <a:ext cx="2065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21:12:06Z</dcterms:modified>
  <cp:revision>107</cp:revision>
  <dc:subject/>
  <dc:title>Paying Attention To Our Thinking</dc:title>
</cp:coreProperties>
</file>