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9.jpeg" ContentType="image/jpeg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7.png" ContentType="image/png"/>
  <Override PartName="/ppt/media/image15.wmf" ContentType="image/x-wmf"/>
  <Override PartName="/ppt/media/image1.jpeg" ContentType="image/jpeg"/>
  <Override PartName="/ppt/media/image11.wmf" ContentType="image/x-wmf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BA29-8932-4760-873A-31F13070F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9E27-CE02-480F-AB34-FBB5D70B0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0F54-472E-4CB3-AC29-EDADB2B88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98F4-8000-4F35-868E-73BB4AB2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6405F-9946-4F24-BCC0-5C66B2BE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6E09B-95DD-46C6-BCD9-8DBF6CEE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56312-D8F4-4CCF-9D63-92B67950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2836F-F3F7-4769-87ED-48A980E0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391E27-AE15-443C-BDFA-4ED96C9E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49657-5B2D-4FC8-8CD6-14D97475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B1523-F7B2-433A-AB7C-FC6C7189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2D98B-1939-4BA5-B4EE-71E0A73F7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51D71-A70D-414A-AAEE-A0C6423B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D2E73-9E7A-4F30-8A05-723A60E06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1C63-5651-4A77-8550-996D1907B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399FB6-241E-46B7-B668-7154A77F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3F194F-E4EE-430F-9486-1B0B0D9C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941511-4E77-4184-AAE3-574C128C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90CE6-F3B8-48B5-A948-FFED157D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BECECF-3794-4C38-BB36-870B0E7C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55E146-90C1-4CB2-9DF8-29725689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F7C9BA-5BCB-4997-8E67-34F63D47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6A81D9-507E-4CE9-A43E-B2578465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32CBB-F35B-41B8-B266-6BB252E4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1094A-078E-4FEE-B258-AA8DF9E41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A0F4-2B7A-4EFC-878A-C450E61BE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E86E2-4AEF-4341-90C5-DF6535217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05E18-3944-4F44-9665-B1D14A5A0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6CF7F-31DA-45A5-8483-7B3069C0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71ED5-8657-4BBF-917B-988F61B1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DD6B2-B00C-4923-AF98-BECB770C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A67F9-071A-463A-BC83-EAB260D4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070FE-F829-4F8F-9D25-AB696AB4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D4E39-ED02-486C-B002-007A589C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7ADF9-6011-4A34-864D-7304B1ED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D4D09-A284-49F4-9074-0D6AFAA7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C641-1C79-45E4-8E48-C7926D1D6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BE9FB-9512-4097-973A-B19C45C8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1CD6B-1AA7-4F47-B491-8536B397E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ED618-E6C2-40CB-B8F6-B92166F44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EA6F87-63F1-451D-A129-997AE5319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B6C23C-8ACB-4E1C-BE83-9A3A24EA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7E1E15-D125-48CF-BC8A-400D3625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0BE68D-EAE1-4408-928D-9D721D79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B4AA30-3EBA-4A34-8730-DF660AE2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59E57-4521-47FB-99B9-37DBCD7D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127A5F-1748-4907-8C2F-67145A9C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3918-CFE1-427A-BCDE-A257893B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F15DCD-9BDA-4A87-9B2E-329D16BA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2136B1-E9F5-46D0-B2D8-1F63FA96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83071B-D2EC-43BA-9AE5-DBCCBFC2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FEA453-3595-42A7-A8D4-045419E9F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31896D-9908-4831-A7C4-A0A98791B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603015-3E13-4091-B623-220FC0D7B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446D29-D0B9-48EA-9EF6-580AE84F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978197-7E9D-4DBB-A671-53F57ACA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876682-20E2-4DA4-9D2C-3DDFAFF1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96B8C1-57DC-4A59-ABF6-A6D0A14D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4FE4-98AB-413A-A1C5-227C182E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BD1983-71F4-4071-8DAD-6E8254CB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95D185-9FDC-40CF-B2A6-A6106701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D347D7-69CA-45B3-97B2-320C2880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CFFA86-DCD0-4178-BC88-1BDF536E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9E750C-7D9E-4ED7-803C-37C5619D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513EE3-5F7C-4FB5-8276-573DB077A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328DA5-DF3A-47E5-B149-532008EE5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BD7B2C-2C83-4F65-A099-CE6454756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9F793F-4166-4773-8216-262CA8E0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F70567-05FE-42E6-9DA9-DA8E906F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DD26-EC41-4A21-BAF5-3D678CAC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F15E75-67AC-4CF8-8985-29581F92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C10969-7D40-43A9-9617-2B4EE7AD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B38C54-49C2-405E-BD65-4AAA054C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5496D7-00D5-4260-B24E-2D719EC9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F33387-3769-4979-A3C4-7755284B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FDA89F-9F54-4FF6-B39C-14881B3D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E91E34-FC3D-4268-A35D-33BEBC36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3F9033-F022-4CAC-AA86-5392AA7F9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4FA81F-891E-433A-9B75-3505F24E5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12C9-6F71-4474-8E7C-A9423759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668C-94EA-42BF-BC33-0FD80B05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2C53-2624-4542-88B3-7DAB4781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AD9D-FA87-4974-8BF5-65F8B6B6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153A-7279-45C0-B498-29F05D8E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C8A6-EB90-4A13-BE08-96B5153C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528D-1B55-45B5-939A-05086538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5BD8-460E-4697-A065-42E5EB898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6AB6-799E-45EF-AEBC-C18654BD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CD862-F279-4A67-A74F-C87505317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428A5-121B-4B63-B3FE-5F049345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CF9D7-8929-40A9-B6A2-E7C86F4E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83315-38B0-45AB-B35C-B6D7E1B7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795E1-6483-40A7-8B32-C880FEE1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A840-E1B8-4C8D-9F61-77CD3B48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456B8-1B95-4D26-9FD8-595AD5E0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BCBE3-48C3-457F-92F2-EC634FE5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933E1-8EFB-4500-90AF-5BA1616D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0A669-8357-47AC-B719-D6BCB34A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DAC7B-A91E-4774-A3A2-2AE125B0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5E496-751C-4FB5-AC60-C72BDF1C6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002ED-ADB6-474A-83F5-4C5728718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2261E-13F2-44E3-9984-D846F0219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5A37F-E227-4B6D-9634-05E99867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8B4F9-28CA-4A99-A045-24186BDE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AD01-E1C6-4847-AC12-29BAE360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CD14D-6C4A-4368-85F3-0E509621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0C7F1-8CF5-49E9-9F83-99DD4CEF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28CC3-EB12-416C-A8CF-A3E45570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B02CB-C552-4AC3-9D9B-A7ABA2FB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3E1BB-3E21-46CF-9857-A8060F2C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4CB4E-1A37-463B-8492-2D0DD5C5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81AA4-20E6-4361-885E-723D78B2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4FD24-E3F1-478B-9C9A-8F3598DE2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0AB8A-1EE8-4026-A9C3-E9057E13D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D163E-F4FC-4E83-B93E-4D0C8D474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5D75-D834-4BE7-8F6C-DFDEDFF1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CA101-126D-42BC-9753-35B7B2FF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8A38B-14A6-44F8-A63E-8B2BAA9F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66E2D-97BE-4DA4-8864-57E5DC93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13408-6580-4424-A487-4E8F69CF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D66D3-4529-424E-B20A-0E967D20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8A295-F67A-42F2-8E5C-CE53C32E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566B5-80E5-47CC-A7A0-AD4C876A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3C2EC-C606-42C2-8B01-57C0155C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D046B-E9FB-4F05-AB48-8079B10E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97A2C-DD4B-4F1B-BF84-637732A7F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B8A1-E452-4729-BB69-934BF6FC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3413A-DD10-423A-AB26-7561547B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464D9-FA76-4E91-A355-A18A11409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0C6AB-98BD-4D32-8442-195E6EF1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A36C6-3B01-4BE6-A4AE-1D29D974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DF4D5-DFAD-43E2-A97A-4062D1FC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26BE4-BCB0-4A40-94A8-2C4095D0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00FB1-6FCA-4911-96EB-4560E068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504CF-AC4D-4D0F-AA72-EF8219D7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AB9C4-DB2B-44A4-948E-19F37252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791C6-30CD-4161-8E23-47C1E359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CE1C-DE4A-45FD-BB74-A88D99EB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62776-20FA-4F1A-BD78-2250CEE1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EC9F8-D472-49ED-B411-6E02F13C6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D381B-DA3B-41BB-8667-55EBBF66C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40213-9F0D-4267-BABD-C7C1BF78F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80BE6-5D31-42D9-9A80-E4A3253E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CE4AC-9EC2-48C8-8B13-E5AA5BE3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D2F34-9590-4EF7-9752-6BB932E2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5A82D-370D-4BFF-9D5C-DBF9F918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04AF5-974B-48D2-9D62-AEF32AE0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2622C-0480-496F-ADFA-0C5864C1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83E7-E5A8-49AB-B47D-39F0B576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FF60C-E24D-44DB-A0DB-712B5A55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D54A4-3D53-4903-AAAC-12DFE765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F5DCF-C674-41EA-927B-CB9D8746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6FCDC-8051-480E-8D9A-1DD2C3AB0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4DA8A-3EC8-4C0B-A7C9-806D6A11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6520E-94B6-4756-9066-9374F8E92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D32DA-A43F-4965-A9D9-E5771DDE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6FE61-431B-4DA7-9ADD-7674695A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6E2E1-C0A7-4A3E-A3AF-292163A6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731E2-91BC-4968-8C65-9ECA1524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493A-82F8-4425-8F96-14C1A147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C2586-F11C-4F74-83D3-EDAD2D10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35478-1A4D-47EA-BBED-1BB4B863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CA227-D9E5-4D11-8528-0CDCA0E7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BF995-203F-4DDB-BFC2-FEC5050D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E28AB-E09F-4330-865F-D58DD1CC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D89FB-B81B-4156-95CF-7EF83ECDA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EFD0F-EE28-4F45-8F8B-7F85611D7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20306-E4B4-428A-B32A-4E6207D1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7811F-73C0-4FE8-8FD2-498D99D8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99FD03-3489-4640-B31A-1FC2A241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C8CC-770D-4436-BDEB-750A293819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A077-00DB-4C27-AB33-7737D0D062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EB05-668A-4680-B050-9594FE2F55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8C63-33E5-4F9E-9D0A-6A866E0C48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C1C1-8A01-4FE0-A578-2F6127F7A4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DECF-D280-4EA3-820D-E6257750A8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406B-6FF2-441C-83E9-729C1696C8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8A1E-ED02-4025-B3F3-6E698F8FDB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C9A4-7E3A-403F-8B6B-583C57BC36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BB99-977B-41C2-93A1-62368604A7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3FCE-348C-4996-AB60-1548F48A02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BC21-BD08-4D3C-BE95-1C2F2E9ED0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080F-03DE-497A-90B2-22FD7E2D19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8925-7B48-4E60-8FB4-1D15C7E778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5" descr="Lighter swirl 1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7"/>
          <p:cNvSpPr/>
          <p:nvPr/>
        </p:nvSpPr>
        <p:spPr>
          <a:xfrm>
            <a:off x="0" y="0"/>
            <a:ext cx="8763120" cy="1828800"/>
          </a:xfrm>
          <a:prstGeom prst="rect">
            <a:avLst/>
          </a:prstGeom>
          <a:solidFill>
            <a:srgbClr val="ffffe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Rectangle 3" descr=""/>
          <p:cNvPicPr/>
          <p:nvPr/>
        </p:nvPicPr>
        <p:blipFill>
          <a:blip r:embed="rId2"/>
          <a:stretch/>
        </p:blipFill>
        <p:spPr>
          <a:xfrm>
            <a:off x="523800" y="2103480"/>
            <a:ext cx="4950000" cy="20239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8" descr=""/>
          <p:cNvPicPr/>
          <p:nvPr/>
        </p:nvPicPr>
        <p:blipFill>
          <a:blip r:embed="rId3"/>
          <a:stretch/>
        </p:blipFill>
        <p:spPr>
          <a:xfrm>
            <a:off x="1752480" y="609480"/>
            <a:ext cx="990720" cy="982800"/>
          </a:xfrm>
          <a:prstGeom prst="rect">
            <a:avLst/>
          </a:prstGeom>
          <a:ln w="0">
            <a:noFill/>
          </a:ln>
        </p:spPr>
      </p:pic>
      <p:sp>
        <p:nvSpPr>
          <p:cNvPr id="600" name="TextBox 6"/>
          <p:cNvSpPr/>
          <p:nvPr/>
        </p:nvSpPr>
        <p:spPr>
          <a:xfrm>
            <a:off x="903240" y="4038480"/>
            <a:ext cx="4469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Swis721 BlkEx BT"/>
              </a:rPr>
              <a:t>Introduction 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Swis721 BlkEx BT"/>
              </a:rPr>
              <a:t>Problem Sol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7" descr=""/>
          <p:cNvPicPr/>
          <p:nvPr/>
        </p:nvPicPr>
        <p:blipFill>
          <a:blip r:embed="rId4"/>
          <a:stretch/>
        </p:blipFill>
        <p:spPr>
          <a:xfrm>
            <a:off x="3200400" y="380880"/>
            <a:ext cx="398952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Straight Connector 7"/>
          <p:cNvSpPr/>
          <p:nvPr/>
        </p:nvSpPr>
        <p:spPr>
          <a:xfrm flipV="1">
            <a:off x="4267080" y="5715000"/>
            <a:ext cx="4343400" cy="83808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BCBA-C5F4-472E-A71B-CA5E4A2707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030a0"/>
                </a:solidFill>
                <a:latin typeface="Swis721 BlkEx BT"/>
              </a:rPr>
              <a:t>Skill 2: State the Problem</a:t>
            </a:r>
            <a:br>
              <a:rPr sz="3600"/>
            </a:b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 1: Identify a Warning 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 2: Describe the si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ctive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 3: Identify a Risk Re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6" descr=""/>
          <p:cNvPicPr/>
          <p:nvPr/>
        </p:nvPicPr>
        <p:blipFill>
          <a:blip r:embed="rId1"/>
          <a:stretch/>
        </p:blipFill>
        <p:spPr>
          <a:xfrm flipH="1">
            <a:off x="5029200" y="4113360"/>
            <a:ext cx="236232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Straight Connector 6"/>
          <p:cNvSpPr/>
          <p:nvPr/>
        </p:nvSpPr>
        <p:spPr>
          <a:xfrm>
            <a:off x="5029200" y="5791320"/>
            <a:ext cx="3124080" cy="75960"/>
          </a:xfrm>
          <a:prstGeom prst="line">
            <a:avLst/>
          </a:prstGeom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6ACE-9522-4F05-BCF6-7E2235AEB2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Swis721 BlkEx BT"/>
              </a:rPr>
              <a:t>Skill 3: Set a Goal and Gather Information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Identify and set a positive and realistic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2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her Informa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F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The other person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ughts and fee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5" descr=""/>
          <p:cNvPicPr/>
          <p:nvPr/>
        </p:nvPicPr>
        <p:blipFill>
          <a:blip r:embed="rId1"/>
          <a:stretch/>
        </p:blipFill>
        <p:spPr>
          <a:xfrm>
            <a:off x="5638680" y="3809880"/>
            <a:ext cx="263844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triped Right Arrow 16"/>
          <p:cNvSpPr/>
          <p:nvPr/>
        </p:nvSpPr>
        <p:spPr>
          <a:xfrm>
            <a:off x="838080" y="5486400"/>
            <a:ext cx="6400800" cy="636480"/>
          </a:xfrm>
          <a:custGeom>
            <a:avLst/>
            <a:gdLst/>
            <a:ahLst/>
            <a:rect l="l" t="t" r="r" b="b"/>
            <a:pathLst>
              <a:path w="6400800" h="636588">
                <a:moveTo>
                  <a:pt x="0" y="159147"/>
                </a:moveTo>
                <a:lnTo>
                  <a:pt x="19893" y="159147"/>
                </a:lnTo>
                <a:lnTo>
                  <a:pt x="19893" y="477441"/>
                </a:lnTo>
                <a:lnTo>
                  <a:pt x="0" y="477441"/>
                </a:lnTo>
                <a:lnTo>
                  <a:pt x="0" y="159147"/>
                </a:lnTo>
                <a:close/>
                <a:moveTo>
                  <a:pt x="39787" y="159147"/>
                </a:moveTo>
                <a:lnTo>
                  <a:pt x="79574" y="159147"/>
                </a:lnTo>
                <a:lnTo>
                  <a:pt x="79574" y="477441"/>
                </a:lnTo>
                <a:lnTo>
                  <a:pt x="39787" y="477441"/>
                </a:lnTo>
                <a:lnTo>
                  <a:pt x="39787" y="159147"/>
                </a:lnTo>
                <a:close/>
                <a:moveTo>
                  <a:pt x="99467" y="159147"/>
                </a:moveTo>
                <a:lnTo>
                  <a:pt x="6082506" y="159147"/>
                </a:lnTo>
                <a:lnTo>
                  <a:pt x="6082506" y="0"/>
                </a:lnTo>
                <a:lnTo>
                  <a:pt x="6400800" y="318294"/>
                </a:lnTo>
                <a:lnTo>
                  <a:pt x="6082506" y="636588"/>
                </a:lnTo>
                <a:lnTo>
                  <a:pt x="6082506" y="477441"/>
                </a:lnTo>
                <a:lnTo>
                  <a:pt x="99467" y="477441"/>
                </a:lnTo>
                <a:lnTo>
                  <a:pt x="99467" y="159147"/>
                </a:lnTo>
                <a:close/>
              </a:path>
            </a:pathLst>
          </a:custGeom>
          <a:solidFill>
            <a:srgbClr val="cccc99"/>
          </a:solidFill>
          <a:ln w="25560">
            <a:solidFill>
              <a:srgbClr val="95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6C67-A898-429E-BBC6-A8EE96012E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Swis721 BlkEx BT"/>
              </a:rPr>
              <a:t>Skill 4: Think of Choices and Consequenc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80769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1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torm cho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2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about consequ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3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a choice to get to your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5" descr=""/>
          <p:cNvPicPr/>
          <p:nvPr/>
        </p:nvPicPr>
        <p:blipFill>
          <a:blip r:embed="rId1"/>
          <a:stretch/>
        </p:blipFill>
        <p:spPr>
          <a:xfrm>
            <a:off x="1295280" y="3809880"/>
            <a:ext cx="1793880" cy="26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EAEF-85C8-46F2-A833-27A60D701F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Swis721 BlkEx BT"/>
              </a:rPr>
              <a:t>Skill 5: Make a Plan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1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who, where and 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Choose key Social Skills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help you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3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what you will do or s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dentify how you will do and say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5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on a thought that will 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5" descr=""/>
          <p:cNvPicPr/>
          <p:nvPr/>
        </p:nvPicPr>
        <p:blipFill>
          <a:blip r:embed="rId1"/>
          <a:stretch/>
        </p:blipFill>
        <p:spPr>
          <a:xfrm flipH="1">
            <a:off x="5028840" y="5392800"/>
            <a:ext cx="251460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6AF4-BF02-4E6A-B38A-CBDEFD7A9C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Swis721 BlkEx BT"/>
              </a:rPr>
              <a:t>Skill 6: Do and</a:t>
            </a:r>
            <a:br>
              <a:rPr sz="4000"/>
            </a:br>
            <a:r>
              <a:rPr b="0" lang="en-US" sz="4000" spc="-1" strike="noStrike">
                <a:solidFill>
                  <a:srgbClr val="7030a0"/>
                </a:solidFill>
                <a:latin typeface="Swis721 BlkEx BT"/>
              </a:rPr>
              <a:t>           Evaluate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ep 1: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ep 2: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k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ep 3: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ide what to do nex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6" descr=""/>
          <p:cNvPicPr/>
          <p:nvPr/>
        </p:nvPicPr>
        <p:blipFill>
          <a:blip r:embed="rId1"/>
          <a:srcRect l="0" t="0" r="-35" b="0"/>
          <a:stretch/>
        </p:blipFill>
        <p:spPr>
          <a:xfrm>
            <a:off x="1676520" y="3989520"/>
            <a:ext cx="380988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4C9F-C750-49A3-85B5-B25FE2B6A4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Tahoma"/>
                <a:ea typeface="Tahoma"/>
              </a:rPr>
              <a:t>Homework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671" name="Picture 6" descr="C:\Documents and Settings\BOP37837\Local Settings\Temporary Internet Files\Content.IE5\92NO5SJ1\MP900439393[1].jpg"/>
          <p:cNvPicPr/>
          <p:nvPr/>
        </p:nvPicPr>
        <p:blipFill>
          <a:blip r:embed="rId1"/>
          <a:stretch/>
        </p:blipFill>
        <p:spPr>
          <a:xfrm>
            <a:off x="990720" y="4876920"/>
            <a:ext cx="3367080" cy="1981080"/>
          </a:xfrm>
          <a:prstGeom prst="rect">
            <a:avLst/>
          </a:prstGeom>
          <a:ln w="0">
            <a:noFill/>
          </a:ln>
        </p:spPr>
      </p:pic>
      <p:sp>
        <p:nvSpPr>
          <p:cNvPr id="672" name="Rectangle 3"/>
          <p:cNvSpPr/>
          <p:nvPr/>
        </p:nvSpPr>
        <p:spPr>
          <a:xfrm>
            <a:off x="533520" y="1600200"/>
            <a:ext cx="83055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tch for situations where you have some type of conflict with another person - a situation where something happens that you do not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be the situation and then identify your warning signs:  physical reaction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sk thoughts and risk feel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Bevel 5"/>
          <p:cNvSpPr/>
          <p:nvPr/>
        </p:nvSpPr>
        <p:spPr>
          <a:xfrm>
            <a:off x="457200" y="5867280"/>
            <a:ext cx="7848720" cy="685800"/>
          </a:xfrm>
          <a:prstGeom prst="bevel">
            <a:avLst>
              <a:gd name="adj" fmla="val 12500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43AC-2B89-48F2-8F69-87FC4E7CA0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3100"/>
                </a:solidFill>
                <a:latin typeface="Tahoma"/>
                <a:ea typeface="Tahoma"/>
              </a:rPr>
              <a:t>Negotiating - Definition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2 people discuss a situation where some agreement must be made that is mutually acceptable to both of th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5" descr="C:\Documents and Settings\BOP37837\Local Settings\Temporary Internet Files\Content.IE5\6KDAHNUR\MC900078742[1].wmf"/>
          <p:cNvPicPr/>
          <p:nvPr/>
        </p:nvPicPr>
        <p:blipFill>
          <a:blip r:embed="rId1"/>
          <a:stretch/>
        </p:blipFill>
        <p:spPr>
          <a:xfrm>
            <a:off x="3581280" y="4114800"/>
            <a:ext cx="26672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F4D3-012C-4C7F-87CB-092995DCBA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3100"/>
                </a:solidFill>
                <a:latin typeface="Tahoma"/>
                <a:ea typeface="Tahoma"/>
              </a:rPr>
              <a:t>Negotiating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Decide if you and the other person are having a difference of op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Tell the other person what you think about the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Ask the other person what he/she thinks about the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Listen objectively to his/her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ts val="9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Think about why the other person might feel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 Suggest a comprom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13" descr="C:\Documents and Settings\BOP37837\Local Settings\Temporary Internet Files\Content.IE5\6KDAHNUR\MC900285466[1].wmf"/>
          <p:cNvPicPr/>
          <p:nvPr/>
        </p:nvPicPr>
        <p:blipFill>
          <a:blip r:embed="rId1"/>
          <a:stretch/>
        </p:blipFill>
        <p:spPr>
          <a:xfrm>
            <a:off x="7086600" y="228600"/>
            <a:ext cx="13939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2083-5A61-42C9-A772-121DB001CC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Tahoma"/>
              </a:rPr>
              <a:t>Homework Review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613" name="Pentagon 10"/>
          <p:cNvGrpSpPr/>
          <p:nvPr/>
        </p:nvGrpSpPr>
        <p:grpSpPr>
          <a:xfrm>
            <a:off x="5052960" y="5151600"/>
            <a:ext cx="3919680" cy="1126800"/>
            <a:chOff x="5052960" y="5151600"/>
            <a:chExt cx="3919680" cy="1126800"/>
          </a:xfrm>
        </p:grpSpPr>
        <p:pic>
          <p:nvPicPr>
            <p:cNvPr id="614" name="Pentagon 10" descr=""/>
            <p:cNvPicPr/>
            <p:nvPr/>
          </p:nvPicPr>
          <p:blipFill>
            <a:blip r:embed="rId1"/>
            <a:stretch/>
          </p:blipFill>
          <p:spPr>
            <a:xfrm>
              <a:off x="5052960" y="5151600"/>
              <a:ext cx="3919680" cy="11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5105520" y="5181480"/>
              <a:ext cx="3555720" cy="10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6" name="Picture 8" descr="C:\Documents and Settings\BOP37837\Local Settings\Temporary Internet Files\Content.IE5\6KDAHNUR\MC900239929[1].wmf"/>
          <p:cNvPicPr/>
          <p:nvPr/>
        </p:nvPicPr>
        <p:blipFill>
          <a:blip r:embed="rId2"/>
          <a:stretch/>
        </p:blipFill>
        <p:spPr>
          <a:xfrm>
            <a:off x="6324480" y="4724280"/>
            <a:ext cx="2286000" cy="179244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3"/>
          <p:cNvSpPr/>
          <p:nvPr/>
        </p:nvSpPr>
        <p:spPr>
          <a:xfrm>
            <a:off x="685800" y="1523880"/>
            <a:ext cx="80773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situation where you practiced the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998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when you did the skill, where, and with wh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998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inking check-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homework 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your answers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questions 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 sectio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478D-5DFD-4DCD-A51B-7DD5074F23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Pentagon 10"/>
          <p:cNvGrpSpPr/>
          <p:nvPr/>
        </p:nvGrpSpPr>
        <p:grpSpPr>
          <a:xfrm>
            <a:off x="5052960" y="5151600"/>
            <a:ext cx="3919680" cy="1126800"/>
            <a:chOff x="5052960" y="5151600"/>
            <a:chExt cx="3919680" cy="1126800"/>
          </a:xfrm>
        </p:grpSpPr>
        <p:pic>
          <p:nvPicPr>
            <p:cNvPr id="620" name="Pentagon 10" descr=""/>
            <p:cNvPicPr/>
            <p:nvPr/>
          </p:nvPicPr>
          <p:blipFill>
            <a:blip r:embed="rId1"/>
            <a:stretch/>
          </p:blipFill>
          <p:spPr>
            <a:xfrm>
              <a:off x="5052960" y="5151600"/>
              <a:ext cx="3919680" cy="11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5105520" y="5181480"/>
              <a:ext cx="3555720" cy="10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2" name="Picture 8" descr="C:\Documents and Settings\BOP37837\Local Settings\Temporary Internet Files\Content.IE5\6KDAHNUR\MC900239929[1].wmf"/>
          <p:cNvPicPr/>
          <p:nvPr/>
        </p:nvPicPr>
        <p:blipFill>
          <a:blip r:embed="rId2"/>
          <a:stretch/>
        </p:blipFill>
        <p:spPr>
          <a:xfrm>
            <a:off x="6324480" y="4724280"/>
            <a:ext cx="2286000" cy="1792440"/>
          </a:xfrm>
          <a:prstGeom prst="rect">
            <a:avLst/>
          </a:prstGeom>
          <a:ln w="0">
            <a:noFill/>
          </a:ln>
        </p:spPr>
      </p:pic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ahoma"/>
              </a:rPr>
              <a:t>Home Work Review cont.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914400" y="190512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you do to follow each step of the skill?  Be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998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another situation where you will use the skill ag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3" descr=""/>
          <p:cNvPicPr/>
          <p:nvPr/>
        </p:nvPicPr>
        <p:blipFill>
          <a:blip r:embed="rId1"/>
          <a:stretch/>
        </p:blipFill>
        <p:spPr>
          <a:xfrm>
            <a:off x="1905120" y="0"/>
            <a:ext cx="5265720" cy="6840360"/>
          </a:xfrm>
          <a:prstGeom prst="rect">
            <a:avLst/>
          </a:prstGeom>
          <a:ln w="0">
            <a:noFill/>
          </a:ln>
        </p:spPr>
      </p:pic>
      <p:sp>
        <p:nvSpPr>
          <p:cNvPr id="626" name="TextBox 4"/>
          <p:cNvSpPr/>
          <p:nvPr/>
        </p:nvSpPr>
        <p:spPr>
          <a:xfrm>
            <a:off x="6181560" y="63784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cb8"/>
                </a:solidFill>
                <a:latin typeface="Arial"/>
              </a:rPr>
              <a:t>Program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33"/>
                </a:solidFill>
                <a:latin typeface="Swis721 BlkEx BT"/>
              </a:rPr>
              <a:t>Conflict Cycle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Oval 15"/>
          <p:cNvSpPr/>
          <p:nvPr/>
        </p:nvSpPr>
        <p:spPr>
          <a:xfrm>
            <a:off x="6324480" y="2819520"/>
            <a:ext cx="1752840" cy="1600200"/>
          </a:xfrm>
          <a:prstGeom prst="ellipse">
            <a:avLst/>
          </a:prstGeom>
          <a:solidFill>
            <a:srgbClr val="cccc99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rning 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16"/>
          <p:cNvSpPr/>
          <p:nvPr/>
        </p:nvSpPr>
        <p:spPr>
          <a:xfrm>
            <a:off x="1066680" y="2819520"/>
            <a:ext cx="1752840" cy="1600200"/>
          </a:xfrm>
          <a:prstGeom prst="ellipse">
            <a:avLst/>
          </a:prstGeom>
          <a:solidFill>
            <a:srgbClr val="cccc99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17"/>
          <p:cNvSpPr/>
          <p:nvPr/>
        </p:nvSpPr>
        <p:spPr>
          <a:xfrm>
            <a:off x="3733920" y="4495680"/>
            <a:ext cx="1752480" cy="1676520"/>
          </a:xfrm>
          <a:prstGeom prst="ellipse">
            <a:avLst/>
          </a:prstGeom>
          <a:solidFill>
            <a:srgbClr val="cc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18"/>
          <p:cNvSpPr/>
          <p:nvPr/>
        </p:nvSpPr>
        <p:spPr>
          <a:xfrm>
            <a:off x="3657600" y="1676520"/>
            <a:ext cx="1752480" cy="16002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34"/>
          <p:cNvSpPr/>
          <p:nvPr/>
        </p:nvSpPr>
        <p:spPr>
          <a:xfrm rot="12596400">
            <a:off x="5562360" y="2666520"/>
            <a:ext cx="914400" cy="228600"/>
          </a:xfrm>
          <a:prstGeom prst="leftArrow">
            <a:avLst>
              <a:gd name="adj1" fmla="val 50000"/>
              <a:gd name="adj2" fmla="val 100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35"/>
          <p:cNvSpPr/>
          <p:nvPr/>
        </p:nvSpPr>
        <p:spPr>
          <a:xfrm rot="9379800">
            <a:off x="2514240" y="2590200"/>
            <a:ext cx="914400" cy="228600"/>
          </a:xfrm>
          <a:prstGeom prst="leftArrow">
            <a:avLst>
              <a:gd name="adj1" fmla="val 50000"/>
              <a:gd name="adj2" fmla="val 100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AutoShape 36"/>
          <p:cNvSpPr/>
          <p:nvPr/>
        </p:nvSpPr>
        <p:spPr>
          <a:xfrm rot="18376800">
            <a:off x="5676840" y="4762440"/>
            <a:ext cx="914400" cy="228600"/>
          </a:xfrm>
          <a:prstGeom prst="leftArrow">
            <a:avLst>
              <a:gd name="adj1" fmla="val 50000"/>
              <a:gd name="adj2" fmla="val 100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37"/>
          <p:cNvSpPr/>
          <p:nvPr/>
        </p:nvSpPr>
        <p:spPr>
          <a:xfrm rot="1717800">
            <a:off x="2361960" y="4876560"/>
            <a:ext cx="914400" cy="228600"/>
          </a:xfrm>
          <a:prstGeom prst="leftArrow">
            <a:avLst>
              <a:gd name="adj1" fmla="val 50000"/>
              <a:gd name="adj2" fmla="val 100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6"/>
          <p:cNvSpPr/>
          <p:nvPr/>
        </p:nvSpPr>
        <p:spPr>
          <a:xfrm>
            <a:off x="6705720" y="5105520"/>
            <a:ext cx="1981080" cy="6858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6A9F-8045-4B8A-88BC-4298AD2ABB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Swis721 BlkEx BT"/>
              </a:rPr>
              <a:t>Problem Solving Skills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ll 1 – Stop and Thin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ll 2 – State the Probl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ll 3 – Set a Goal and Gath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ll 4 – Think of Choices and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equ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ll 5 – Make a Pla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ll 6 – Do and Evalu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5" descr=""/>
          <p:cNvPicPr/>
          <p:nvPr/>
        </p:nvPicPr>
        <p:blipFill>
          <a:blip r:embed="rId1"/>
          <a:srcRect l="0" t="0" r="58981" b="0"/>
          <a:stretch/>
        </p:blipFill>
        <p:spPr>
          <a:xfrm flipH="1">
            <a:off x="7010280" y="2666880"/>
            <a:ext cx="145584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Straight Connector 6"/>
          <p:cNvSpPr/>
          <p:nvPr/>
        </p:nvSpPr>
        <p:spPr>
          <a:xfrm>
            <a:off x="5410080" y="5562720"/>
            <a:ext cx="3429000" cy="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7FFC-0D92-47A5-A671-A576F808CF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Swis721 BlkEx BT"/>
              </a:rPr>
              <a:t>Skill 1: Stop and Think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1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:  Pay attention to your warning signs - </a:t>
            </a:r>
            <a:r>
              <a:rPr b="0" i="1" lang="en-US" sz="3200" spc="-1" strike="noStrike">
                <a:solidFill>
                  <a:srgbClr val="0070c0"/>
                </a:solidFill>
                <a:latin typeface="Arial"/>
              </a:rPr>
              <a:t>Physical reactions; Risk thoughts; Risk fee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2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:  Reduce your risk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3200" spc="-1" strike="noStrike">
                <a:solidFill>
                  <a:srgbClr val="00b050"/>
                </a:solidFill>
                <a:latin typeface="Arial"/>
              </a:rPr>
              <a:t>Be quiet; Get space; Calm dow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5" descr=""/>
          <p:cNvPicPr/>
          <p:nvPr/>
        </p:nvPicPr>
        <p:blipFill>
          <a:blip r:embed="rId1"/>
          <a:stretch/>
        </p:blipFill>
        <p:spPr>
          <a:xfrm>
            <a:off x="6705720" y="3809880"/>
            <a:ext cx="214776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5:14:12Z</dcterms:created>
  <dc:creator>bop1998</dc:creator>
  <dc:description/>
  <dc:language>en-US</dc:language>
  <cp:lastModifiedBy>BOP37849</cp:lastModifiedBy>
  <dcterms:modified xsi:type="dcterms:W3CDTF">2011-12-02T17:08:31Z</dcterms:modified>
  <cp:revision>63</cp:revision>
  <dc:subject/>
  <dc:title>Paying Attention To Our Thinking</dc:title>
</cp:coreProperties>
</file>