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0D4-BE11-4607-B4DE-12039A4D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50F-03A2-4F88-94FD-5B70DE6F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9E4-40D0-46B1-B52A-A8C8E4CF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A94-3540-450B-AC95-BD503D24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2CF7-4B76-4F19-870E-DE559CA6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A6AA-C439-46F4-BA63-AC7B9B5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B123-93C2-4FA9-B9C4-B05AD834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2E42-DF8F-436E-9BF2-AA754F3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12FC-9B83-4003-84CB-6BE5CF58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73C-C894-48E0-A7B8-875CFC9E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072B-37E7-4490-9B47-C1EFE0C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C6D-6D55-4770-9A65-9E25969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29DF-284F-4524-B5E9-6912A75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E179-C80F-4461-AB36-1D5B6620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6BE4-26C5-4340-9D0C-13280016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83E2-470E-4765-B707-7E894475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9C25-446C-42B4-BAB3-6E1C714F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F64-E563-4D21-BCAF-2D8E50B6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083-63E6-4B18-9AF9-3BE04C6E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CB3-10AE-4C12-9371-56D9F389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B3F-8E37-4147-AF10-72BABD4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8BF-2421-46E2-9A9D-1E34AA2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D2B-E608-4DEA-B366-7CCD0705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AD5-9F54-4D86-8C10-34BF5B37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A3B0-5EE6-4BAF-8A8E-14FA1337FE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1F06-AB18-4DB4-82B5-CDA5042FA6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676440" y="1951200"/>
            <a:ext cx="6851520" cy="217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1066680" y="36576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 Nego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2628-38DD-48F0-ACCA-B3864249D4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Responding to Anger - Defini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ay to learn how to ident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other person is ang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o react to that person by expressing your thoughts, feelings, attitudes and beliefs, without hurting yourself or o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257800" y="4834080"/>
            <a:ext cx="1655640" cy="202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 flipH="1">
            <a:off x="6629040" y="4114800"/>
            <a:ext cx="20494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977-B285-4328-AABF-7FC55B3738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Responding to Anger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sten to the other person who is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Try to understand what the angry person is saying and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sk the other person to explain anything you don’t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Show that you understand w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feels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In a pro-social way, express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s and feelings ab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rcRect l="0" t="0" r="34816" b="0"/>
          <a:stretch/>
        </p:blipFill>
        <p:spPr>
          <a:xfrm flipH="1">
            <a:off x="6629400" y="3951360"/>
            <a:ext cx="18288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D049-FACA-4F43-B2B9-97AABF13BB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4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15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685800" y="15238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ituation where you practiced th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“when you did the skill, where, and with wh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nking check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homework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answe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questions 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 s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4BD-4031-4542-B357-DF8EB34964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21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</a:rPr>
              <a:t>Home Work Review cont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144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other situation where you will use the skill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Bevel 5"/>
          <p:cNvSpPr/>
          <p:nvPr/>
        </p:nvSpPr>
        <p:spPr>
          <a:xfrm>
            <a:off x="457200" y="5867280"/>
            <a:ext cx="7848720" cy="68580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F0A2-C609-4D05-B748-3F5DA67BAE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3100"/>
                </a:solidFill>
                <a:latin typeface="Tahoma"/>
                <a:ea typeface="Tahoma"/>
              </a:rPr>
              <a:t>Negotiating - Defini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2 people discuss a situation where some agreement must be made that is mutually acceptable to both of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Documents and Settings\BOP37837\Local Settings\Temporary Internet Files\Content.IE5\6KDAHNUR\MC900078742[1].wmf"/>
          <p:cNvPicPr/>
          <p:nvPr/>
        </p:nvPicPr>
        <p:blipFill>
          <a:blip r:embed="rId1"/>
          <a:stretch/>
        </p:blipFill>
        <p:spPr>
          <a:xfrm>
            <a:off x="3581280" y="4114800"/>
            <a:ext cx="266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29AF-7B25-442C-A2B5-35196D53D5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3100"/>
                </a:solidFill>
                <a:latin typeface="Tahoma"/>
                <a:ea typeface="Tahoma"/>
              </a:rPr>
              <a:t>Negotiating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Decide if you and the other person are having a difference of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Tell the other person what you think about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sk the other person what he/she thinks           about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Listen objectively to his/he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ts val="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Think about why the other person might           feel this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Suggest a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C:\Documents and Settings\BOP37837\Local Settings\Temporary Internet Files\Content.IE5\6KDAHNUR\MC900285466[1].wmf"/>
          <p:cNvPicPr/>
          <p:nvPr/>
        </p:nvPicPr>
        <p:blipFill>
          <a:blip r:embed="rId1"/>
          <a:stretch/>
        </p:blipFill>
        <p:spPr>
          <a:xfrm>
            <a:off x="7086600" y="228600"/>
            <a:ext cx="13939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03:04Z</dcterms:modified>
  <cp:revision>65</cp:revision>
  <dc:subject/>
  <dc:title>Paying Attention To Our Thinking</dc:title>
</cp:coreProperties>
</file>