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A22-6A52-494D-B2BA-0A95B8D3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311-CE58-42BE-AE75-7158361C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433-5BA6-42C7-BECA-18D7C99B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0EF-E5B5-4858-B762-BBBBB79E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4EBC-5C0A-4D57-BF8C-65FB4CA7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DCDB-6180-4799-910E-AA5DE501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8C78-CBA9-4377-AC2B-21302993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AE61-D714-4F36-93DD-5B0A8AB2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9C40-D72B-4F42-BF2C-C6CBB06D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A2E5-1656-44A4-9479-1738C594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A7FB-4EFD-45D4-8FC1-A208BAB0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C03-E702-48C9-AF44-C0C63037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E64C-8412-4C51-A0CA-480BF126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729E-A5D7-47A1-B32F-A9B53B6E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C97B-C9D3-4C05-84A2-5637CD61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A703-769B-4DA4-8BF9-6A781384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8082-9E24-41BF-91D9-48CEB00A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F0A-B538-41BB-92E2-CE47C20B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9501-EE08-444D-ACA9-3530E9C7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0BB-AAE8-44F7-972B-40EBAA89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D7B-2678-4BE1-B7EC-CB356835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9FA7-0462-4AF7-B8BA-E7A59843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40D1-F901-4073-8598-55D915E2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AFAB-EB89-4F72-8F33-15EC8213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81E8-3A08-4E03-964C-5638B18450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70BC-D24E-4652-B457-E3532FF431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2"/>
          <a:stretch/>
        </p:blipFill>
        <p:spPr>
          <a:xfrm>
            <a:off x="523800" y="1725480"/>
            <a:ext cx="6851880" cy="2170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838080" y="3581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Social Skill: Apolog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8BEF-7391-415A-9690-897A710F72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Tahoma"/>
                <a:ea typeface="Tahoma"/>
              </a:rPr>
              <a:t>Making a Complaint 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Decide what your complain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Decide whom to complain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Tell that person your compl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Tell that person what you would like done about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Ask how he/she fe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what you’ve 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C:\Documents and Settings\BOP37837\Local Settings\Temporary Internet Files\Content.IE5\J2NU0OSC\MC900078762[1].wmf"/>
          <p:cNvPicPr/>
          <p:nvPr/>
        </p:nvPicPr>
        <p:blipFill>
          <a:blip r:embed="rId1"/>
          <a:stretch/>
        </p:blipFill>
        <p:spPr>
          <a:xfrm flipH="1">
            <a:off x="5943240" y="4114800"/>
            <a:ext cx="19810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E038-69BF-47CC-AC34-6336F55686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Homework Review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9" name="Pentagon 10"/>
          <p:cNvGrpSpPr/>
          <p:nvPr/>
        </p:nvGrpSpPr>
        <p:grpSpPr>
          <a:xfrm>
            <a:off x="5052960" y="5151600"/>
            <a:ext cx="3919680" cy="1126800"/>
            <a:chOff x="5052960" y="5151600"/>
            <a:chExt cx="3919680" cy="1126800"/>
          </a:xfrm>
        </p:grpSpPr>
        <p:pic>
          <p:nvPicPr>
            <p:cNvPr id="110" name="Pentagon 10" descr=""/>
            <p:cNvPicPr/>
            <p:nvPr/>
          </p:nvPicPr>
          <p:blipFill>
            <a:blip r:embed="rId1"/>
            <a:stretch/>
          </p:blipFill>
          <p:spPr>
            <a:xfrm>
              <a:off x="5052960" y="5151600"/>
              <a:ext cx="391968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05520" y="5181480"/>
              <a:ext cx="355572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6324480" y="4724280"/>
            <a:ext cx="2286000" cy="17924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685800" y="1523880"/>
            <a:ext cx="80773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situation where you practiced th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998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“when you did the skill, where, and with who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998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inking check-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homework 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your answer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questions 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 sec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6F9A-63AC-4AD0-BA98-21A934CE6E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Pentagon 10"/>
          <p:cNvGrpSpPr/>
          <p:nvPr/>
        </p:nvGrpSpPr>
        <p:grpSpPr>
          <a:xfrm>
            <a:off x="5052960" y="5151600"/>
            <a:ext cx="3919680" cy="1126800"/>
            <a:chOff x="5052960" y="5151600"/>
            <a:chExt cx="3919680" cy="1126800"/>
          </a:xfrm>
        </p:grpSpPr>
        <p:pic>
          <p:nvPicPr>
            <p:cNvPr id="116" name="Pentagon 10" descr=""/>
            <p:cNvPicPr/>
            <p:nvPr/>
          </p:nvPicPr>
          <p:blipFill>
            <a:blip r:embed="rId1"/>
            <a:stretch/>
          </p:blipFill>
          <p:spPr>
            <a:xfrm>
              <a:off x="5052960" y="5151600"/>
              <a:ext cx="391968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105520" y="5181480"/>
              <a:ext cx="355572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6324480" y="4724280"/>
            <a:ext cx="2286000" cy="1792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ahoma"/>
              </a:rPr>
              <a:t>Home Work Review cont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914400" y="19051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do to follow each step of the skill?  B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998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nother situation where you will use the skill ag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3DC6-6B70-4E99-87A4-DD589908D9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ahoma"/>
                <a:ea typeface="Tahoma"/>
              </a:rPr>
              <a:t>Apologizing – Definition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way for 1 person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l another person or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of individuals tha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or she is sorry for, 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rets something he 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did, said, or ma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pp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rcRect l="50733" t="0" r="0" b="0"/>
          <a:stretch/>
        </p:blipFill>
        <p:spPr>
          <a:xfrm flipH="1">
            <a:off x="6248160" y="2743200"/>
            <a:ext cx="25146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F7C4-2668-4E2F-8492-BDFFA94FD0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ahoma"/>
                <a:ea typeface="Tahoma"/>
              </a:rPr>
              <a:t>Apologizing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Decide if it would be best for you to apologize for something you said or d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Think of the differ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ys you could apolog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Choose the best time and place to apolog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 Make your ap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2-12T15:57:33Z</dcterms:modified>
  <cp:revision>66</cp:revision>
  <dc:subject/>
  <dc:title>Paying Attention To Our Thinking</dc:title>
</cp:coreProperties>
</file>