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1"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5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94"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5"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16F2F-73A5-448A-A668-ABA48CC95E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A9A8D-22C2-4504-A4EC-BB012D034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119240" y="679320"/>
            <a:ext cx="4626000" cy="3470400"/>
          </a:xfrm>
          <a:prstGeom prst="rect">
            <a:avLst/>
          </a:prstGeom>
          <a:ln w="0">
            <a:noFill/>
          </a:ln>
        </p:spPr>
      </p:sp>
      <p:sp>
        <p:nvSpPr>
          <p:cNvPr id="652" name="PlaceHolder 2"/>
          <p:cNvSpPr>
            <a:spLocks noGrp="1"/>
          </p:cNvSpPr>
          <p:nvPr>
            <p:ph type="body"/>
          </p:nvPr>
        </p:nvSpPr>
        <p:spPr>
          <a:xfrm>
            <a:off x="895320" y="4375080"/>
            <a:ext cx="5073840" cy="4073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think of cognitive structure like an iceberg.  What is above the water is what you can see.  But danger of the iceberg lies beneath the surface. Cutting off the top won’t significantly alter the mass of the iceburg. Likewise, unless we deal with thinking - the behaviors we can’t see. It is difficult to change the actions that we ca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900B0-2856-42FF-A6A8-5245FBD8B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29487-1CDD-4DCE-8DFB-5E5FEA5CE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002790-809D-4219-A406-0EF8ED72FD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91CB47-DB24-48EF-8852-4A0955ABA6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6E40D8-E513-4B5D-979F-4AA3F07132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B82729-B36B-484E-8AF3-50D10E1FD5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485249-DE1D-4428-9D88-950FA32581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66AA1C-A70E-47D8-941D-B8AE90AD68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B18D9F-4C06-4422-93ED-55B8094C42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B46FD7-BEA2-4E4A-85BD-F09A4BD1EC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431E3A-CAF0-46AE-B4D7-AFDF1E9D5A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B8A5AC2-C339-4493-BF02-FDFBD85A18C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4846A-9254-48D4-BE5D-E2DF99336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0"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45CCC8D-9BD2-490B-B846-A8ECB8C35D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D578875-D716-4F29-82F8-E3DA95AA81D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3E31463-DE2B-4A47-BBC6-0B5187C46BE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360F5B-E2C5-4D4C-BDE5-234738B1970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0D1C40F-BA33-425C-B576-CD9DC01811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5F12DC-5A9E-4A7E-9F1B-EFC408CFF2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9B5B5E-6382-44A1-BC06-9540C62B80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9CB498-C383-4874-9F00-FF9C64C761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1"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20F1AE-663A-40B4-A86B-B23E36C0694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8EB6347-423E-4AE5-8D4A-DE8F92E5292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EAEC2-04AD-46FD-86BF-BA9341C4B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9"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B8344BF-8097-485E-A4F0-77A6B29E5E3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5669372-CF45-4D39-B658-52A81E4BD2F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DE762C8-640E-4FC5-89F1-D2ECAADFF1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B00C39-21B6-456B-9835-E0D45EE4ED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C3134FC-0B77-4758-86C1-0771DC0BA0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1AD6A6-3868-4A89-9CA8-E4BF9AE29C3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F8988F-F032-4720-A10D-1C3430FB3E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4563F1-F0D0-4A5D-BDC7-2FE1A966FD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C0F140-3AC3-4725-A703-8AE507FF4E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89EBDE-4AD1-4684-8F98-F5978F8C49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E67B73-0335-49F4-BD90-08119813F4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76B049-4816-4FCC-B71C-93B1C3AFBE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5EC5CB2-F248-4B26-8BCA-FCBD922DE46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6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B94B3CD-F3D2-44EA-9398-5B3F79C6CB5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ABFC60A-5BED-4B44-BF7C-38BA753ABDC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7ED6C5-ED29-458A-A845-696C573DE49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48A7FF-AA3F-4201-9D44-243020FE89C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B76989F-7E48-4E37-9998-CE1700EABC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7538C5A-BC6D-48CD-857F-4B0F2BFCDAB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8AA5ED4-B7EB-4BA7-B886-6F943DB712D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8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4DF30D-79B9-472D-B9CE-AEFA3616F21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A68BC-2C90-4036-8DFF-8D73BF7E3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8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2A03EF-FCCF-4B9D-BF5C-B8099F7FEE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8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6F9C80-6D65-47F0-9F1C-0EE8E6D774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9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3AEF9B6-2C74-40E4-89F5-091AB80B5A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9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5CCA160-2D92-46F4-862F-C30DB995EAC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0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C7D213B-A24F-439A-B6C1-478018D0991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9FB8783-FB28-49B8-B9F2-464796533AE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1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AB81725-1795-4A57-BD3D-A5BE31FB720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A45F2C0-DD8B-41D3-874A-A1FB461DFAB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1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FCC9D04-669E-4C93-BB5A-5242B4D8C02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958AE69-7E52-49A8-9C50-70484E826B6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59305-E304-4591-8F61-AEAF46278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EA2D8F3-795E-414B-998F-B7168001BDD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2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C77E795-2294-4987-A6D3-57F7F9051E4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2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02094AC-FE9F-42EA-93A3-2B5FD99D7C3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5A44B17-CAE9-465D-A1F2-BEC2787C2AA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606EBE2-18B7-4454-86D8-3B5F2A625BB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7EDA7EF-66C2-4630-B8F0-DEACB170262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4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9C48062-BC55-4CA4-BBB5-FF641E8F878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603B772-9C84-4FDE-BE02-44F1D2C1C88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0E1B2A5-3370-44CE-ABFB-377FC856B74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27643E5-D84F-4398-8427-3D899930D23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BDA4B-05D9-451E-8E3E-B96117009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6BA0F7C-717F-40FF-A514-9399CBB7BD2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BE11F97-6FE1-4C9D-B574-54604F934E0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75B7E2D-7E78-4B31-87AE-5CD88DFBD64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6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09BE158-F172-4E62-9F15-540CCD48F07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6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4CB63BB-6ACB-4C88-88D7-D7E01C9CCCA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EBB2EAF-2FBA-4BD2-9C48-1297CFB8B90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A5D4B84-A9B5-4C95-AE5B-86C89625A46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D172426-105A-41FF-B794-6D688B5F939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5899B02-177C-4313-9256-1B6282C6602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1BB09-3709-4C31-A698-B40032FF8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F54DF7-B66F-4A59-A441-EB100445A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9C3C7-A5E6-44DA-9DF5-65A4DE93F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5A260-32A6-4C39-A26E-8B1B21CD3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E6229-E870-480E-9C29-A5525B674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8B085-4B3B-4828-9867-6D849F260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F72D3-CAB1-4ACF-9C80-34776510C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1EE3FD-5FEC-4BFB-9FB7-90F72DB1C6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47F195-1C0A-4ADC-9131-63B3D93B8A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888277-0CA4-466F-9B20-03428CC2B1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70E0A5-A4E9-47EE-8A40-B09577C638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87127E-0F2B-4F7B-82E0-626BDFDA34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5D6924-EB44-4DE3-910A-E56629BD0A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0A702A-441D-4646-93A6-E1248A49CC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6AF08-0E49-45FD-AEE8-EABA1CFEC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FCE0D3-C8FD-4687-8CC8-FDDF9CBDCA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D3770D-6718-4B48-927F-F4D328D490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12DF01-50FC-46F8-A3E0-9F5803C877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3C75A1-C25A-49BB-9C36-8EAA2703CC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C52348-E864-4D59-871F-4D557014A5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0A1090-DDC1-4B5C-B010-52FCAAC3FF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F81092-57FE-4221-8193-A8B07BA736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104016-7EB3-44E1-8A9C-78179A8888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352220-C01B-4A94-8D50-559B2FBBBF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8EF348-20E8-44C4-AC92-6F91528EAA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50E68-CD34-4C8A-94EB-D5086FFA4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DD034D-1D7C-45CF-BA62-098DB59F66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6EB853-60CF-4C57-86F8-AD0C03AF9B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A3ACB0-4D00-4429-8256-91B970789D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57884D-FB56-4C21-A894-2BB7EDA59C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6C1AED-426A-4DDB-9985-0E6256D087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97A8E2-182F-427C-91DA-889426677F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6A5A57-812E-421A-9E85-A3BFEE9C6E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AE5AA5-73D7-4987-A98A-6A7992B6C4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52CF7F-F563-4A2A-A0D9-126DD0D994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01BFE1-D7F4-4A10-A702-B9854C66A7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4C08D-E47C-4B2F-9858-4A385C0DB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71D56C-6378-484E-9146-FADFE282FE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8D56A0-1B26-4796-9FCB-C8AD7255B0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C3AA84-8F58-4E6B-BFC9-6CB2740FC7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333D84-ED03-45E0-980B-BDCAAF33FB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D3EE21-22E8-4387-A372-AA07D6B039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05D666-5587-4489-8258-4ACB876FC5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EC50B1-6D8C-4246-9F78-8B21DA1FDF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241B78-64D0-4B02-8AEB-0A65ACED17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84D27B-4017-4F14-919D-2FA08CBF97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47E5F2-248B-412E-8210-BD8F810A72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AA7FE-0E2F-4521-9777-CDE440628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955DCE-3CE0-4B29-9BE5-854C72E0BD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B1CE4C-935E-4D05-AD75-C261C7787D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2D13F0-F6D6-4C79-988B-D21EC7EB70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4FFEF5-FC38-4302-93FD-F62E3B8823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88349C-C656-4458-8D4A-6000C98798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0B3230-DBFF-4894-9CAA-9B3006583B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EA8560-CFF7-45A6-8EBD-24C74515EE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6A57CE-8F16-4E61-AA5E-351143AC76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FA9EB2-2AB0-461E-8CEA-F3DA1466D4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5583C4-3EB2-42CE-8BBB-26296FCE05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BBABF-A304-4298-AAF5-BA5220A5F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8FF0C8-A8F5-40B4-BAF6-D40454C378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78A5BD-2F0F-4C9C-B752-83328C98CD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24E282-57ED-44BC-AEA0-2450A54070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FDA966-CAB3-400B-9616-02F584F03B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7"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C501AC-4C2A-4F1A-AAD1-A100899C2A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1C80CD-5965-4BBC-9D32-B7050B7BFE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6537EF-A34C-4251-84DD-8F01B63901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FE14B5-73FC-4C41-A441-07838D368B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EFBD69-6D74-4A3E-B730-A57BCC5BB8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A81A4D-7D98-4B5D-8B5A-8ECFD85EE0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F1C5E-9E2B-4F49-A217-C16F140F9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A6CCE2-BADD-43A5-9BA5-4FD1899D5D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4F0D5A-4B2E-44B4-8E6D-01A71EE46C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8"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40E1EE-4625-42BB-A238-1FF7C1F4DC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632634-8814-42D6-BFE3-FEE879DB01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6"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A7645A-EEBA-4490-90E1-0ADE7D87DD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716513-5CA8-43F9-BD69-71D6B4BFA4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23C97C-C892-44FB-B701-F2D57761A0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C2C5EB-B300-44F0-9B49-7EB981BBDE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549FD0-0A4F-484A-BC13-568A1F77D2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43DA2A-110E-4E66-9443-E73E6B6FE4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13615-3545-41EB-9162-8B0A019A7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01DB50-E165-4A5B-B578-4AAC9A1BCE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88CC5E-8521-4752-8952-8E42B43437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AA29CD-CDE8-4DEB-93EE-F7E27CDBE6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69AF02-1B02-4E61-8902-68C630381F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E6DE5F-9772-4995-8838-A55D832C94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DB1BF0-D164-4CC0-8966-936C85D392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01BE48-3289-46BD-A769-43EAD84781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525B93-E41F-4D0B-895E-9A3BF07A44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C2F259-DBFE-4BE4-93DB-40E77575C3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FE23F8-3088-4AFE-88E4-01E122BB1D8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594EB-5EB5-43BE-AC7C-CA9FD487235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6"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C7F0C-8557-4D02-8B8F-9BAE393045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7"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8"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E1C4D-C0AE-4A5E-B23F-901AF01525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8"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9"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4E39B-7C13-4BF9-ABCD-15D15523C3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9"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10"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B9E20-AD29-4595-A8BC-47AF952F146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0"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51"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6CE70-4DD3-41DD-A0DF-A4B18143A5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5AF02-AF22-47C8-AD12-08B097BCC65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8" name="Group 2"/>
          <p:cNvGrpSpPr/>
          <p:nvPr/>
        </p:nvGrpSpPr>
        <p:grpSpPr>
          <a:xfrm>
            <a:off x="0" y="0"/>
            <a:ext cx="8763120" cy="5943600"/>
            <a:chOff x="0" y="0"/>
            <a:chExt cx="8763120" cy="5943600"/>
          </a:xfrm>
        </p:grpSpPr>
        <p:sp>
          <p:nvSpPr>
            <p:cNvPr id="89"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Group 4"/>
            <p:cNvGrpSpPr/>
            <p:nvPr/>
          </p:nvGrpSpPr>
          <p:grpSpPr>
            <a:xfrm>
              <a:off x="0" y="3505320"/>
              <a:ext cx="8763120" cy="2438280"/>
              <a:chOff x="0" y="3505320"/>
              <a:chExt cx="8763120" cy="2438280"/>
            </a:xfrm>
          </p:grpSpPr>
          <p:sp>
            <p:nvSpPr>
              <p:cNvPr id="91"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Group 8"/>
            <p:cNvGrpSpPr/>
            <p:nvPr/>
          </p:nvGrpSpPr>
          <p:grpSpPr>
            <a:xfrm>
              <a:off x="635040" y="533520"/>
              <a:ext cx="8077320" cy="304560"/>
              <a:chOff x="635040" y="533520"/>
              <a:chExt cx="8077320" cy="304560"/>
            </a:xfrm>
          </p:grpSpPr>
          <p:sp>
            <p:nvSpPr>
              <p:cNvPr id="95"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98"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 name="PlaceHolder 3"/>
          <p:cNvSpPr>
            <a:spLocks noGrp="1"/>
          </p:cNvSpPr>
          <p:nvPr>
            <p:ph type="dt" idx="7"/>
          </p:nvPr>
        </p:nvSpPr>
        <p:spPr>
          <a:xfrm>
            <a:off x="912600" y="625140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type="ftr" idx="8"/>
          </p:nvPr>
        </p:nvSpPr>
        <p:spPr>
          <a:xfrm>
            <a:off x="33541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F1AFE-6B29-4C1F-88C8-83E7317A7C4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0"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41"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5493C-5915-4E94-A176-C72150F63DA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067D7-C325-4FCC-91FB-ECAD073E12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3D8CD-C98E-47F7-95FA-8686BE5628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3"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64"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D9CC2-7C77-4B98-B010-33E5507277B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4"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05"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169F4-0356-4145-AF94-AA202D1A179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5"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46"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B4BF4-BB9A-408C-AA1D-00A30F6F55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5" descr="Lighter swirl 1.jpg"/>
          <p:cNvPicPr/>
          <p:nvPr/>
        </p:nvPicPr>
        <p:blipFill>
          <a:blip r:embed="rId1"/>
          <a:stretch/>
        </p:blipFill>
        <p:spPr>
          <a:xfrm>
            <a:off x="0" y="914400"/>
            <a:ext cx="9144000" cy="5943600"/>
          </a:xfrm>
          <a:prstGeom prst="rect">
            <a:avLst/>
          </a:prstGeom>
          <a:ln w="0">
            <a:noFill/>
          </a:ln>
        </p:spPr>
      </p:pic>
      <p:sp>
        <p:nvSpPr>
          <p:cNvPr id="597" name="Rectangle 7"/>
          <p:cNvSpPr/>
          <p:nvPr/>
        </p:nvSpPr>
        <p:spPr>
          <a:xfrm>
            <a:off x="0" y="0"/>
            <a:ext cx="8763120" cy="1828800"/>
          </a:xfrm>
          <a:prstGeom prst="rect">
            <a:avLst/>
          </a:prstGeom>
          <a:solidFill>
            <a:srgbClr val="ffffe1"/>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8" name="Rectangle 3" descr=""/>
          <p:cNvPicPr/>
          <p:nvPr/>
        </p:nvPicPr>
        <p:blipFill>
          <a:blip r:embed="rId2"/>
          <a:stretch/>
        </p:blipFill>
        <p:spPr>
          <a:xfrm>
            <a:off x="-60480" y="1878120"/>
            <a:ext cx="5838840" cy="2554200"/>
          </a:xfrm>
          <a:prstGeom prst="rect">
            <a:avLst/>
          </a:prstGeom>
          <a:ln w="0">
            <a:noFill/>
          </a:ln>
        </p:spPr>
      </p:pic>
      <p:pic>
        <p:nvPicPr>
          <p:cNvPr id="599" name="Picture 8" descr=""/>
          <p:cNvPicPr/>
          <p:nvPr/>
        </p:nvPicPr>
        <p:blipFill>
          <a:blip r:embed="rId3"/>
          <a:stretch/>
        </p:blipFill>
        <p:spPr>
          <a:xfrm>
            <a:off x="1752480" y="609480"/>
            <a:ext cx="990720" cy="982800"/>
          </a:xfrm>
          <a:prstGeom prst="rect">
            <a:avLst/>
          </a:prstGeom>
          <a:ln w="0">
            <a:noFill/>
          </a:ln>
        </p:spPr>
      </p:pic>
      <p:sp>
        <p:nvSpPr>
          <p:cNvPr id="600" name="TextBox 6"/>
          <p:cNvSpPr/>
          <p:nvPr/>
        </p:nvSpPr>
        <p:spPr>
          <a:xfrm>
            <a:off x="838080" y="4191120"/>
            <a:ext cx="70866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2060"/>
                </a:solidFill>
                <a:latin typeface="Swis721 BlkEx BT"/>
              </a:rPr>
              <a:t>Introduction</a:t>
            </a:r>
            <a:endParaRPr b="0" lang="en-US" sz="6000" spc="-1" strike="noStrike">
              <a:solidFill>
                <a:srgbClr val="000000"/>
              </a:solidFill>
              <a:latin typeface="Arial"/>
            </a:endParaRPr>
          </a:p>
        </p:txBody>
      </p:sp>
      <p:pic>
        <p:nvPicPr>
          <p:cNvPr id="601" name="Picture 7" descr=""/>
          <p:cNvPicPr/>
          <p:nvPr/>
        </p:nvPicPr>
        <p:blipFill>
          <a:blip r:embed="rId4"/>
          <a:stretch/>
        </p:blipFill>
        <p:spPr>
          <a:xfrm>
            <a:off x="3200400" y="380880"/>
            <a:ext cx="3989520" cy="1308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alpha val="67000"/>
          </a:srgbClr>
        </a:solidFill>
      </p:bgPr>
    </p:bg>
    <p:spTree>
      <p:nvGrpSpPr>
        <p:cNvPr id="1" name=""/>
        <p:cNvGrpSpPr/>
        <p:nvPr/>
      </p:nvGrpSpPr>
      <p:grpSpPr>
        <a:xfrm>
          <a:off x="0" y="0"/>
          <a:ext cx="0" cy="0"/>
          <a:chOff x="0" y="0"/>
          <a:chExt cx="0" cy="0"/>
        </a:xfrm>
      </p:grpSpPr>
      <p:pic>
        <p:nvPicPr>
          <p:cNvPr id="642" name="Picture 3" descr=""/>
          <p:cNvPicPr/>
          <p:nvPr/>
        </p:nvPicPr>
        <p:blipFill>
          <a:blip r:embed="rId1"/>
          <a:stretch/>
        </p:blipFill>
        <p:spPr>
          <a:xfrm>
            <a:off x="1905120" y="0"/>
            <a:ext cx="5265720" cy="6840360"/>
          </a:xfrm>
          <a:prstGeom prst="rect">
            <a:avLst/>
          </a:prstGeom>
          <a:ln w="0">
            <a:noFill/>
          </a:ln>
        </p:spPr>
      </p:pic>
      <p:sp>
        <p:nvSpPr>
          <p:cNvPr id="643" name="TextBox 4"/>
          <p:cNvSpPr/>
          <p:nvPr/>
        </p:nvSpPr>
        <p:spPr>
          <a:xfrm>
            <a:off x="6181560" y="637848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cb8"/>
                </a:solidFill>
                <a:latin typeface="Arial"/>
              </a:rPr>
              <a:t>Program Organiz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ight Arrow Callout 5"/>
          <p:cNvSpPr/>
          <p:nvPr/>
        </p:nvSpPr>
        <p:spPr>
          <a:xfrm>
            <a:off x="838080" y="1676520"/>
            <a:ext cx="4724640" cy="2514600"/>
          </a:xfrm>
          <a:prstGeom prst="rightArrowCallout">
            <a:avLst>
              <a:gd name="adj1" fmla="val 25002"/>
              <a:gd name="adj2" fmla="val 25000"/>
              <a:gd name="adj3" fmla="val 25000"/>
              <a:gd name="adj4" fmla="val 64977"/>
            </a:avLst>
          </a:prstGeom>
          <a:solidFill>
            <a:srgbClr val="0070c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55FD7-52F2-4B0B-A064-8D1627A3D3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646" name="Rectangle 2" descr=""/>
          <p:cNvPicPr/>
          <p:nvPr/>
        </p:nvPicPr>
        <p:blipFill>
          <a:blip r:embed="rId1"/>
          <a:stretch/>
        </p:blipFill>
        <p:spPr>
          <a:xfrm>
            <a:off x="858960" y="158760"/>
            <a:ext cx="8059680" cy="1517760"/>
          </a:xfrm>
          <a:prstGeom prst="rect">
            <a:avLst/>
          </a:prstGeom>
          <a:ln w="0">
            <a:noFill/>
          </a:ln>
        </p:spPr>
      </p:pic>
      <p:sp>
        <p:nvSpPr>
          <p:cNvPr id="647" name="TextBox 5"/>
          <p:cNvSpPr/>
          <p:nvPr/>
        </p:nvSpPr>
        <p:spPr>
          <a:xfrm>
            <a:off x="990720" y="1828800"/>
            <a:ext cx="27432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69"/>
                </a:solidFill>
                <a:latin typeface="Futura Hv BT"/>
              </a:rPr>
              <a:t>I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69"/>
                </a:solidFill>
                <a:latin typeface="Futura Hv BT"/>
              </a:rPr>
              <a:t>will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69"/>
                </a:solidFill>
                <a:latin typeface="Futura Hv BT"/>
              </a:rPr>
              <a:t>decide</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Left Arrow Callout 7"/>
          <p:cNvSpPr/>
          <p:nvPr/>
        </p:nvSpPr>
        <p:spPr>
          <a:xfrm>
            <a:off x="1981080" y="3886200"/>
            <a:ext cx="6782040" cy="2590920"/>
          </a:xfrm>
          <a:prstGeom prst="leftArrowCallout">
            <a:avLst>
              <a:gd name="adj1" fmla="val 25002"/>
              <a:gd name="adj2" fmla="val 25000"/>
              <a:gd name="adj3" fmla="val 25001"/>
              <a:gd name="adj4" fmla="val 64983"/>
            </a:avLst>
          </a:prstGeom>
          <a:solidFill>
            <a:srgbClr val="aeae5d"/>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9"/>
          <p:cNvSpPr/>
          <p:nvPr/>
        </p:nvSpPr>
        <p:spPr>
          <a:xfrm>
            <a:off x="4038480" y="4114800"/>
            <a:ext cx="51055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Futura Hv BT"/>
              </a:rPr>
              <a:t>I am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Futura Hv BT"/>
              </a:rPr>
              <a:t>My own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Futura Hv BT"/>
              </a:rPr>
              <a:t>author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283E2-B4BE-4E3E-8FEC-21AEBBCA0E7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03" name="PlaceHolder 1"/>
          <p:cNvSpPr>
            <a:spLocks noGrp="1"/>
          </p:cNvSpPr>
          <p:nvPr>
            <p:ph type="title"/>
          </p:nvPr>
        </p:nvSpPr>
        <p:spPr>
          <a:xfrm>
            <a:off x="914040" y="228240"/>
            <a:ext cx="7620120" cy="142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33"/>
                </a:solidFill>
                <a:latin typeface="Swis721 BlkEx BT"/>
              </a:rPr>
              <a:t>Thinking Controls Behavior</a:t>
            </a:r>
            <a:endParaRPr b="0" lang="en-US" sz="4000" spc="-1" strike="noStrike">
              <a:solidFill>
                <a:srgbClr val="330033"/>
              </a:solidFill>
              <a:latin typeface="Times New Roman"/>
            </a:endParaRPr>
          </a:p>
        </p:txBody>
      </p:sp>
      <p:sp>
        <p:nvSpPr>
          <p:cNvPr id="604" name="Vertical Scroll 4"/>
          <p:cNvSpPr/>
          <p:nvPr/>
        </p:nvSpPr>
        <p:spPr>
          <a:xfrm>
            <a:off x="1600200" y="2209680"/>
            <a:ext cx="5334120" cy="3962520"/>
          </a:xfrm>
          <a:prstGeom prst="verticalScroll">
            <a:avLst>
              <a:gd name="adj" fmla="val 12500"/>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Box 6"/>
          <p:cNvSpPr/>
          <p:nvPr/>
        </p:nvSpPr>
        <p:spPr>
          <a:xfrm>
            <a:off x="2209680" y="2743200"/>
            <a:ext cx="4267440" cy="3294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Arial"/>
              </a:rPr>
              <a:t>By taking charge of our thinking we can take control of our lives</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6" name="Rectangle 4"/>
          <p:cNvGrpSpPr/>
          <p:nvPr/>
        </p:nvGrpSpPr>
        <p:grpSpPr>
          <a:xfrm>
            <a:off x="633240" y="1573200"/>
            <a:ext cx="7804440" cy="4986360"/>
            <a:chOff x="633240" y="1573200"/>
            <a:chExt cx="7804440" cy="4986360"/>
          </a:xfrm>
        </p:grpSpPr>
        <p:pic>
          <p:nvPicPr>
            <p:cNvPr id="607" name="Rectangle 4" descr=""/>
            <p:cNvPicPr/>
            <p:nvPr/>
          </p:nvPicPr>
          <p:blipFill>
            <a:blip r:embed="rId1"/>
            <a:stretch/>
          </p:blipFill>
          <p:spPr>
            <a:xfrm>
              <a:off x="633240" y="1573200"/>
              <a:ext cx="7804440" cy="4986360"/>
            </a:xfrm>
            <a:prstGeom prst="rect">
              <a:avLst/>
            </a:prstGeom>
            <a:ln w="0">
              <a:noFill/>
            </a:ln>
          </p:spPr>
        </p:pic>
        <p:sp>
          <p:nvSpPr>
            <p:cNvPr id="608" name=""/>
            <p:cNvSpPr/>
            <p:nvPr/>
          </p:nvSpPr>
          <p:spPr>
            <a:xfrm>
              <a:off x="685800" y="1600200"/>
              <a:ext cx="7696080" cy="487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9"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796C7-B13B-4299-A048-81D44A2CC5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1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Swis721 BlkEx BT"/>
              </a:rPr>
              <a:t>3 Key Types </a:t>
            </a:r>
            <a:br>
              <a:rPr sz="3600"/>
            </a:br>
            <a:r>
              <a:rPr b="1" lang="en-US" sz="3600" spc="-1" strike="noStrike">
                <a:solidFill>
                  <a:srgbClr val="0070c0"/>
                </a:solidFill>
                <a:latin typeface="Swis721 BlkEx BT"/>
              </a:rPr>
              <a:t>of Skills</a:t>
            </a:r>
            <a:endParaRPr b="0" lang="en-US" sz="3600" spc="-1" strike="noStrike">
              <a:solidFill>
                <a:srgbClr val="330033"/>
              </a:solidFill>
              <a:latin typeface="Times New Roman"/>
            </a:endParaRPr>
          </a:p>
        </p:txBody>
      </p:sp>
      <p:sp>
        <p:nvSpPr>
          <p:cNvPr id="611" name="PlaceHolder 2"/>
          <p:cNvSpPr>
            <a:spLocks noGrp="1"/>
          </p:cNvSpPr>
          <p:nvPr>
            <p:ph/>
          </p:nvPr>
        </p:nvSpPr>
        <p:spPr>
          <a:xfrm>
            <a:off x="990360" y="1905120"/>
            <a:ext cx="6629400" cy="43020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gnitive Self-Change</a:t>
            </a:r>
            <a:r>
              <a:rPr b="0" lang="en-US" sz="2400" spc="-1" strike="noStrike">
                <a:solidFill>
                  <a:srgbClr val="000000"/>
                </a:solidFill>
                <a:latin typeface="Arial"/>
              </a:rPr>
              <a:t> - Paying attention to the thoughts and feelings that go on inside of us to avoid the kinds of thoughts and feelings that lead us to troubl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Skills</a:t>
            </a:r>
            <a:r>
              <a:rPr b="0" lang="en-US" sz="2400" spc="-1" strike="noStrike">
                <a:solidFill>
                  <a:srgbClr val="000000"/>
                </a:solidFill>
                <a:latin typeface="Arial"/>
              </a:rPr>
              <a:t> – Behaviors or abilities we use in situations that involve other peo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Solving Skills</a:t>
            </a:r>
            <a:r>
              <a:rPr b="0" lang="en-US" sz="2400" spc="-1" strike="noStrike">
                <a:solidFill>
                  <a:srgbClr val="000000"/>
                </a:solidFill>
                <a:latin typeface="Arial"/>
              </a:rPr>
              <a:t> – Skills to help us make better cho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2" name="Rectangle 4"/>
          <p:cNvGrpSpPr/>
          <p:nvPr/>
        </p:nvGrpSpPr>
        <p:grpSpPr>
          <a:xfrm>
            <a:off x="633240" y="1573200"/>
            <a:ext cx="7804440" cy="4986360"/>
            <a:chOff x="633240" y="1573200"/>
            <a:chExt cx="7804440" cy="4986360"/>
          </a:xfrm>
        </p:grpSpPr>
        <p:pic>
          <p:nvPicPr>
            <p:cNvPr id="613" name="Rectangle 4" descr=""/>
            <p:cNvPicPr/>
            <p:nvPr/>
          </p:nvPicPr>
          <p:blipFill>
            <a:blip r:embed="rId1"/>
            <a:stretch/>
          </p:blipFill>
          <p:spPr>
            <a:xfrm>
              <a:off x="633240" y="1573200"/>
              <a:ext cx="7804440" cy="4986360"/>
            </a:xfrm>
            <a:prstGeom prst="rect">
              <a:avLst/>
            </a:prstGeom>
            <a:ln w="0">
              <a:noFill/>
            </a:ln>
          </p:spPr>
        </p:pic>
        <p:sp>
          <p:nvSpPr>
            <p:cNvPr id="614" name=""/>
            <p:cNvSpPr/>
            <p:nvPr/>
          </p:nvSpPr>
          <p:spPr>
            <a:xfrm>
              <a:off x="685800" y="1600200"/>
              <a:ext cx="7696080" cy="487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5"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1A86E-AFF5-4E6B-922F-462616FD02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1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Swis721 BlkEx BT"/>
              </a:rPr>
              <a:t>3 Key Types </a:t>
            </a:r>
            <a:br>
              <a:rPr sz="3600"/>
            </a:br>
            <a:r>
              <a:rPr b="1" lang="en-US" sz="3600" spc="-1" strike="noStrike">
                <a:solidFill>
                  <a:srgbClr val="0070c0"/>
                </a:solidFill>
                <a:latin typeface="Swis721 BlkEx BT"/>
              </a:rPr>
              <a:t>of Skills</a:t>
            </a:r>
            <a:endParaRPr b="0" lang="en-US" sz="3600" spc="-1" strike="noStrike">
              <a:solidFill>
                <a:srgbClr val="330033"/>
              </a:solidFill>
              <a:latin typeface="Times New Roman"/>
            </a:endParaRPr>
          </a:p>
        </p:txBody>
      </p:sp>
      <p:sp>
        <p:nvSpPr>
          <p:cNvPr id="617" name="PlaceHolder 2"/>
          <p:cNvSpPr>
            <a:spLocks noGrp="1"/>
          </p:cNvSpPr>
          <p:nvPr>
            <p:ph/>
          </p:nvPr>
        </p:nvSpPr>
        <p:spPr>
          <a:xfrm>
            <a:off x="990360" y="1905120"/>
            <a:ext cx="6629400" cy="43020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gnitive Self-Change</a:t>
            </a:r>
            <a:r>
              <a:rPr b="0" lang="en-US" sz="2400" spc="-1" strike="noStrike">
                <a:solidFill>
                  <a:srgbClr val="000000"/>
                </a:solidFill>
                <a:latin typeface="Arial"/>
              </a:rPr>
              <a:t> - Paying attention to the thoughts and feelings that go on inside of us to avoid the kinds of thoughts and feelings that lead us to troubl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Social Skills</a:t>
            </a:r>
            <a:r>
              <a:rPr b="0" lang="en-US" sz="2400" spc="-1" strike="noStrike">
                <a:solidFill>
                  <a:srgbClr val="7f7f7f"/>
                </a:solidFill>
                <a:latin typeface="Arial"/>
              </a:rPr>
              <a:t> – Behaviors or abilities we use in situations that involve other peo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Problem Solving Skills</a:t>
            </a:r>
            <a:r>
              <a:rPr b="0" lang="en-US" sz="2400" spc="-1" strike="noStrike">
                <a:solidFill>
                  <a:srgbClr val="7f7f7f"/>
                </a:solidFill>
                <a:latin typeface="Arial"/>
              </a:rPr>
              <a:t> – Skills to help us make better cho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80C0-257D-41C5-8F9D-0FBFE78305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619" name="Picture 5" descr="C:\Documents and Settings\BOP37837\Local Settings\Temporary Internet Files\Content.IE5\92NO5SJ1\MP900439332[1].jpg"/>
          <p:cNvPicPr/>
          <p:nvPr/>
        </p:nvPicPr>
        <p:blipFill>
          <a:blip r:embed="rId1"/>
          <a:stretch/>
        </p:blipFill>
        <p:spPr>
          <a:xfrm>
            <a:off x="1295280" y="1981080"/>
            <a:ext cx="6407280" cy="4054680"/>
          </a:xfrm>
          <a:prstGeom prst="rect">
            <a:avLst/>
          </a:prstGeom>
          <a:ln w="0">
            <a:noFill/>
          </a:ln>
        </p:spPr>
      </p:pic>
      <p:sp>
        <p:nvSpPr>
          <p:cNvPr id="620" name="TextBox 6"/>
          <p:cNvSpPr/>
          <p:nvPr/>
        </p:nvSpPr>
        <p:spPr>
          <a:xfrm>
            <a:off x="0" y="228600"/>
            <a:ext cx="92203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0061"/>
                </a:solidFill>
                <a:latin typeface="Swis721 BlkEx BT"/>
              </a:rPr>
              <a:t>  </a:t>
            </a:r>
            <a:r>
              <a:rPr b="1" lang="en-US" sz="4000" spc="-1" strike="noStrike">
                <a:solidFill>
                  <a:srgbClr val="610061"/>
                </a:solidFill>
                <a:latin typeface="Swis721 BlkEx BT"/>
              </a:rPr>
              <a:t>Showing what goes on inside our he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1" name="Rectangle 4"/>
          <p:cNvGrpSpPr/>
          <p:nvPr/>
        </p:nvGrpSpPr>
        <p:grpSpPr>
          <a:xfrm>
            <a:off x="633240" y="1573200"/>
            <a:ext cx="7804440" cy="4986360"/>
            <a:chOff x="633240" y="1573200"/>
            <a:chExt cx="7804440" cy="4986360"/>
          </a:xfrm>
        </p:grpSpPr>
        <p:pic>
          <p:nvPicPr>
            <p:cNvPr id="622" name="Rectangle 4" descr=""/>
            <p:cNvPicPr/>
            <p:nvPr/>
          </p:nvPicPr>
          <p:blipFill>
            <a:blip r:embed="rId1"/>
            <a:stretch/>
          </p:blipFill>
          <p:spPr>
            <a:xfrm>
              <a:off x="633240" y="1573200"/>
              <a:ext cx="7804440" cy="4986360"/>
            </a:xfrm>
            <a:prstGeom prst="rect">
              <a:avLst/>
            </a:prstGeom>
            <a:ln w="0">
              <a:noFill/>
            </a:ln>
          </p:spPr>
        </p:pic>
        <p:sp>
          <p:nvSpPr>
            <p:cNvPr id="623" name=""/>
            <p:cNvSpPr/>
            <p:nvPr/>
          </p:nvSpPr>
          <p:spPr>
            <a:xfrm>
              <a:off x="685800" y="1600200"/>
              <a:ext cx="7696080" cy="487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F30C1-7D40-435E-8E95-0117E5A516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2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Swis721 BlkEx BT"/>
              </a:rPr>
              <a:t>3 Key Types </a:t>
            </a:r>
            <a:br>
              <a:rPr sz="3600"/>
            </a:br>
            <a:r>
              <a:rPr b="1" lang="en-US" sz="3600" spc="-1" strike="noStrike">
                <a:solidFill>
                  <a:srgbClr val="0070c0"/>
                </a:solidFill>
                <a:latin typeface="Swis721 BlkEx BT"/>
              </a:rPr>
              <a:t>of Skills</a:t>
            </a:r>
            <a:endParaRPr b="0" lang="en-US" sz="3600" spc="-1" strike="noStrike">
              <a:solidFill>
                <a:srgbClr val="330033"/>
              </a:solidFill>
              <a:latin typeface="Times New Roman"/>
            </a:endParaRPr>
          </a:p>
        </p:txBody>
      </p:sp>
      <p:sp>
        <p:nvSpPr>
          <p:cNvPr id="626" name="PlaceHolder 2"/>
          <p:cNvSpPr>
            <a:spLocks noGrp="1"/>
          </p:cNvSpPr>
          <p:nvPr>
            <p:ph/>
          </p:nvPr>
        </p:nvSpPr>
        <p:spPr>
          <a:xfrm>
            <a:off x="990360" y="1905120"/>
            <a:ext cx="6629400" cy="43020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Cognitive Self Change</a:t>
            </a:r>
            <a:r>
              <a:rPr b="0" lang="en-US" sz="2400" spc="-1" strike="noStrike">
                <a:solidFill>
                  <a:srgbClr val="7f7f7f"/>
                </a:solidFill>
                <a:latin typeface="Arial"/>
              </a:rPr>
              <a:t> - Paying attention to the thoughts and feelings that go on inside of us to avoid the kinds of thoughts and feelings that lead us to troubl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Skills</a:t>
            </a:r>
            <a:r>
              <a:rPr b="0" lang="en-US" sz="2400" spc="-1" strike="noStrike">
                <a:solidFill>
                  <a:srgbClr val="000000"/>
                </a:solidFill>
                <a:latin typeface="Arial"/>
              </a:rPr>
              <a:t> – Behaviors or abilities we use in situations that involve other peo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Problem Solving Skills</a:t>
            </a:r>
            <a:r>
              <a:rPr b="0" lang="en-US" sz="2400" spc="-1" strike="noStrike">
                <a:solidFill>
                  <a:srgbClr val="7f7f7f"/>
                </a:solidFill>
                <a:latin typeface="Arial"/>
              </a:rPr>
              <a:t> – Skills to help us make better cho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7" name="Rectangle 4"/>
          <p:cNvGrpSpPr/>
          <p:nvPr/>
        </p:nvGrpSpPr>
        <p:grpSpPr>
          <a:xfrm>
            <a:off x="633240" y="1573200"/>
            <a:ext cx="7804440" cy="4986360"/>
            <a:chOff x="633240" y="1573200"/>
            <a:chExt cx="7804440" cy="4986360"/>
          </a:xfrm>
        </p:grpSpPr>
        <p:pic>
          <p:nvPicPr>
            <p:cNvPr id="628" name="Rectangle 4" descr=""/>
            <p:cNvPicPr/>
            <p:nvPr/>
          </p:nvPicPr>
          <p:blipFill>
            <a:blip r:embed="rId1"/>
            <a:stretch/>
          </p:blipFill>
          <p:spPr>
            <a:xfrm>
              <a:off x="633240" y="1573200"/>
              <a:ext cx="7804440" cy="4986360"/>
            </a:xfrm>
            <a:prstGeom prst="rect">
              <a:avLst/>
            </a:prstGeom>
            <a:ln w="0">
              <a:noFill/>
            </a:ln>
          </p:spPr>
        </p:pic>
        <p:sp>
          <p:nvSpPr>
            <p:cNvPr id="629" name=""/>
            <p:cNvSpPr/>
            <p:nvPr/>
          </p:nvSpPr>
          <p:spPr>
            <a:xfrm>
              <a:off x="685800" y="1600200"/>
              <a:ext cx="7696080" cy="487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0"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6AB86-3523-45FC-B1AA-5384A8B1581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3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Swis721 BlkEx BT"/>
              </a:rPr>
              <a:t>3 Key Types </a:t>
            </a:r>
            <a:br>
              <a:rPr sz="3600"/>
            </a:br>
            <a:r>
              <a:rPr b="1" lang="en-US" sz="3600" spc="-1" strike="noStrike">
                <a:solidFill>
                  <a:srgbClr val="0070c0"/>
                </a:solidFill>
                <a:latin typeface="Swis721 BlkEx BT"/>
              </a:rPr>
              <a:t>of Skills</a:t>
            </a:r>
            <a:endParaRPr b="0" lang="en-US" sz="3600" spc="-1" strike="noStrike">
              <a:solidFill>
                <a:srgbClr val="330033"/>
              </a:solidFill>
              <a:latin typeface="Times New Roman"/>
            </a:endParaRPr>
          </a:p>
        </p:txBody>
      </p:sp>
      <p:sp>
        <p:nvSpPr>
          <p:cNvPr id="632" name="PlaceHolder 2"/>
          <p:cNvSpPr>
            <a:spLocks noGrp="1"/>
          </p:cNvSpPr>
          <p:nvPr>
            <p:ph/>
          </p:nvPr>
        </p:nvSpPr>
        <p:spPr>
          <a:xfrm>
            <a:off x="990360" y="1905120"/>
            <a:ext cx="6629400" cy="43020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Cognitive Self Change</a:t>
            </a:r>
            <a:r>
              <a:rPr b="0" lang="en-US" sz="2400" spc="-1" strike="noStrike">
                <a:solidFill>
                  <a:srgbClr val="7f7f7f"/>
                </a:solidFill>
                <a:latin typeface="Arial"/>
              </a:rPr>
              <a:t> - Paying attention to the thoughts and feelings that go on inside of us to avoid the kinds of thoughts and feelings that lead us to troubl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Social Skills</a:t>
            </a:r>
            <a:r>
              <a:rPr b="0" lang="en-US" sz="2400" spc="-1" strike="noStrike">
                <a:solidFill>
                  <a:srgbClr val="7f7f7f"/>
                </a:solidFill>
                <a:latin typeface="Arial"/>
              </a:rPr>
              <a:t> – Behaviors or abilities we use in situations that involve other peo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Solving Skills</a:t>
            </a:r>
            <a:r>
              <a:rPr b="0" lang="en-US" sz="2400" spc="-1" strike="noStrike">
                <a:solidFill>
                  <a:srgbClr val="000000"/>
                </a:solidFill>
                <a:latin typeface="Arial"/>
              </a:rPr>
              <a:t> – Skills to help us make better cho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0c0"/>
                </a:solidFill>
                <a:latin typeface="Swis721 BlkEx BT"/>
              </a:rPr>
              <a:t>Iceberg  Analogy</a:t>
            </a:r>
            <a:endParaRPr b="0" lang="en-US" sz="4200" spc="-1" strike="noStrike">
              <a:solidFill>
                <a:srgbClr val="330033"/>
              </a:solidFill>
              <a:latin typeface="Times New Roman"/>
            </a:endParaRPr>
          </a:p>
        </p:txBody>
      </p:sp>
      <p:pic>
        <p:nvPicPr>
          <p:cNvPr id="634" name="Picture 3" descr="iceburg3"/>
          <p:cNvPicPr/>
          <p:nvPr/>
        </p:nvPicPr>
        <p:blipFill>
          <a:blip r:embed="rId1"/>
          <a:stretch/>
        </p:blipFill>
        <p:spPr>
          <a:xfrm>
            <a:off x="1600200" y="1523880"/>
            <a:ext cx="5943600" cy="5334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5105520" y="380520"/>
            <a:ext cx="403848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Swis721 BlkEx BT"/>
              </a:rPr>
              <a:t>Cognitive Restructuring</a:t>
            </a:r>
            <a:endParaRPr b="0" lang="en-US" sz="2200" spc="-1" strike="noStrike">
              <a:solidFill>
                <a:srgbClr val="330033"/>
              </a:solidFill>
              <a:latin typeface="Times New Roman"/>
            </a:endParaRPr>
          </a:p>
        </p:txBody>
      </p:sp>
      <p:sp>
        <p:nvSpPr>
          <p:cNvPr id="636" name="AutoShape 87"/>
          <p:cNvSpPr/>
          <p:nvPr/>
        </p:nvSpPr>
        <p:spPr>
          <a:xfrm>
            <a:off x="457200" y="838080"/>
            <a:ext cx="8229600" cy="5867640"/>
          </a:xfrm>
          <a:prstGeom prst="triangle">
            <a:avLst>
              <a:gd name="adj" fmla="val 50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Text Box 95"/>
          <p:cNvSpPr/>
          <p:nvPr/>
        </p:nvSpPr>
        <p:spPr>
          <a:xfrm>
            <a:off x="3505320" y="2109960"/>
            <a:ext cx="2133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s</a:t>
            </a:r>
            <a:endParaRPr b="0" lang="en-US" sz="1800" spc="-1" strike="noStrike">
              <a:solidFill>
                <a:srgbClr val="000000"/>
              </a:solidFill>
              <a:latin typeface="Arial"/>
            </a:endParaRPr>
          </a:p>
        </p:txBody>
      </p:sp>
      <p:sp>
        <p:nvSpPr>
          <p:cNvPr id="638" name="Rectangle 100"/>
          <p:cNvSpPr/>
          <p:nvPr/>
        </p:nvSpPr>
        <p:spPr>
          <a:xfrm>
            <a:off x="2286000" y="4572000"/>
            <a:ext cx="45720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ugh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ling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itudes/Beliefs</a:t>
            </a:r>
            <a:endParaRPr b="0" lang="en-US" sz="2000" spc="-1" strike="noStrike">
              <a:solidFill>
                <a:srgbClr val="000000"/>
              </a:solidFill>
              <a:latin typeface="Arial"/>
            </a:endParaRPr>
          </a:p>
        </p:txBody>
      </p:sp>
      <p:sp>
        <p:nvSpPr>
          <p:cNvPr id="639" name="Text Box 101"/>
          <p:cNvSpPr/>
          <p:nvPr/>
        </p:nvSpPr>
        <p:spPr>
          <a:xfrm flipH="1" rot="18336000">
            <a:off x="-413640" y="4838400"/>
            <a:ext cx="339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Behaviors</a:t>
            </a:r>
            <a:endParaRPr b="0" lang="en-US" sz="1800" spc="-1" strike="noStrike">
              <a:solidFill>
                <a:srgbClr val="000000"/>
              </a:solidFill>
              <a:latin typeface="Arial"/>
            </a:endParaRPr>
          </a:p>
        </p:txBody>
      </p:sp>
      <p:sp>
        <p:nvSpPr>
          <p:cNvPr id="640" name="Text Box 103"/>
          <p:cNvSpPr/>
          <p:nvPr/>
        </p:nvSpPr>
        <p:spPr>
          <a:xfrm flipH="1" rot="18255600">
            <a:off x="2053800" y="2085120"/>
            <a:ext cx="2103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Behaviors</a:t>
            </a:r>
            <a:endParaRPr b="0" lang="en-US" sz="1800" spc="-1" strike="noStrike">
              <a:solidFill>
                <a:srgbClr val="000000"/>
              </a:solidFill>
              <a:latin typeface="Arial"/>
            </a:endParaRPr>
          </a:p>
        </p:txBody>
      </p:sp>
      <p:sp>
        <p:nvSpPr>
          <p:cNvPr id="641" name="Freeform 107"/>
          <p:cNvSpPr/>
          <p:nvPr/>
        </p:nvSpPr>
        <p:spPr>
          <a:xfrm>
            <a:off x="685800" y="3048120"/>
            <a:ext cx="8458200" cy="965160"/>
          </a:xfrm>
          <a:custGeom>
            <a:avLst/>
            <a:gdLst>
              <a:gd name="textAreaLeft" fmla="*/ 0 w 8458200"/>
              <a:gd name="textAreaRight" fmla="*/ 8458560 w 8458200"/>
              <a:gd name="textAreaTop" fmla="*/ 0 h 965160"/>
              <a:gd name="textAreaBottom" fmla="*/ 965520 h 965160"/>
            </a:gdLst>
            <a:ahLst/>
            <a:rect l="textAreaLeft" t="textAreaTop" r="textAreaRight" b="textAreaBottom"/>
            <a:pathLst>
              <a:path w="5328" h="608">
                <a:moveTo>
                  <a:pt x="0" y="544"/>
                </a:moveTo>
                <a:cubicBezTo>
                  <a:pt x="224" y="348"/>
                  <a:pt x="448" y="152"/>
                  <a:pt x="576" y="160"/>
                </a:cubicBezTo>
                <a:cubicBezTo>
                  <a:pt x="704" y="168"/>
                  <a:pt x="688" y="576"/>
                  <a:pt x="768" y="592"/>
                </a:cubicBezTo>
                <a:cubicBezTo>
                  <a:pt x="848" y="608"/>
                  <a:pt x="984" y="264"/>
                  <a:pt x="1056" y="256"/>
                </a:cubicBezTo>
                <a:cubicBezTo>
                  <a:pt x="1128" y="248"/>
                  <a:pt x="1104" y="568"/>
                  <a:pt x="1200" y="544"/>
                </a:cubicBezTo>
                <a:cubicBezTo>
                  <a:pt x="1296" y="520"/>
                  <a:pt x="1408" y="112"/>
                  <a:pt x="1632" y="112"/>
                </a:cubicBezTo>
                <a:cubicBezTo>
                  <a:pt x="1856" y="112"/>
                  <a:pt x="2344" y="552"/>
                  <a:pt x="2544" y="544"/>
                </a:cubicBezTo>
                <a:cubicBezTo>
                  <a:pt x="2744" y="536"/>
                  <a:pt x="2744" y="128"/>
                  <a:pt x="2832" y="64"/>
                </a:cubicBezTo>
                <a:cubicBezTo>
                  <a:pt x="2920" y="0"/>
                  <a:pt x="2992" y="96"/>
                  <a:pt x="3072" y="160"/>
                </a:cubicBezTo>
                <a:cubicBezTo>
                  <a:pt x="3152" y="224"/>
                  <a:pt x="3192" y="464"/>
                  <a:pt x="3312" y="448"/>
                </a:cubicBezTo>
                <a:cubicBezTo>
                  <a:pt x="3432" y="432"/>
                  <a:pt x="3680" y="48"/>
                  <a:pt x="3792" y="64"/>
                </a:cubicBezTo>
                <a:cubicBezTo>
                  <a:pt x="3904" y="80"/>
                  <a:pt x="3864" y="536"/>
                  <a:pt x="3984" y="544"/>
                </a:cubicBezTo>
                <a:cubicBezTo>
                  <a:pt x="4104" y="552"/>
                  <a:pt x="4360" y="120"/>
                  <a:pt x="4512" y="112"/>
                </a:cubicBezTo>
                <a:cubicBezTo>
                  <a:pt x="4664" y="104"/>
                  <a:pt x="4760" y="480"/>
                  <a:pt x="4896" y="496"/>
                </a:cubicBezTo>
                <a:cubicBezTo>
                  <a:pt x="5032" y="512"/>
                  <a:pt x="5256" y="256"/>
                  <a:pt x="5328" y="208"/>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7T15:14:12Z</dcterms:created>
  <dc:creator>bop1998</dc:creator>
  <dc:description/>
  <dc:language>en-US</dc:language>
  <cp:lastModifiedBy>BOP37849</cp:lastModifiedBy>
  <dcterms:modified xsi:type="dcterms:W3CDTF">2011-12-12T13:50:28Z</dcterms:modified>
  <cp:revision>81</cp:revision>
  <dc:subject/>
  <dc:title>Paying Attention To Our Thinking</dc:title>
</cp:coreProperties>
</file>