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F838-F8AB-4E0B-9430-054B6F0EB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847B-F72A-45A6-B573-4F7DE762E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707-0EEA-4D33-B9D1-3065919A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DE5-769C-47E8-A139-146263FE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07D-06FD-469D-9CA7-73CC6AB6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171-0F1A-4D83-A92C-1C141F63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8A45-D28F-4902-8180-DDA2A081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B14D-9C41-4EF1-922C-3F6A7DD0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5AC7-043D-4591-B5FC-EC3908CF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A9B8-278C-428E-9B1E-BECA3704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B6D5-A691-47D1-8612-1DD580D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48CE-0A9E-41D7-9074-B246D057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758-9BCA-413B-A7A9-D70DA0C7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859-BF0B-44E4-AA93-51B9DACB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AA19-570C-473B-AFEE-93DB1528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5F1B-BE22-473A-8526-029D898C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118C-4990-4B34-B9A2-18A17DD9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9049-01B9-406F-8C71-0BB54DE9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2DD3-1EFE-47CC-949A-099F84AF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35A-0728-4FDE-9902-D5804429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2BD-809C-44E1-8D4F-92DD7D60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556-7EB1-4546-931C-8F563B22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94C-CD1C-4C42-BC55-2BFE0271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25C-E24B-4645-8DE4-F0265DE4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798-3A89-4D20-9FE7-EE50C8E8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CEF-9E27-4920-9B42-CB5B58C4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7EE2-EAA7-466A-BCD0-DBD68CBFE5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930E-B5C7-4107-9481-BB52CC551F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1066680" y="2743200"/>
            <a:ext cx="685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Swis721 BlkEx BT"/>
              </a:rPr>
              <a:t>Social Skil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Swis721 BlkEx BT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BD56-9948-4C37-9F70-F31D220877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52578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Swis721 BlkEx BT"/>
              </a:rPr>
              <a:t>Social Skill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kills are the skills we use when we deal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ocial skills help get us what we want; maximizing positive responses, and minimizing negative responses from other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410080" y="4419720"/>
            <a:ext cx="213516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158-420D-4BD6-97F7-97DEDB0F5E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Swis721 BlkEx BT"/>
                <a:ea typeface="Tahoma"/>
              </a:rPr>
              <a:t>Process for the Lesso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Homework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Learn next social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ors introduce and model new sk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members role play new skill and rece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Transfer training: Contract to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kill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 flipH="1">
            <a:off x="7009920" y="152280"/>
            <a:ext cx="162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762120" y="380988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ocial Ski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Active 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3" descr=""/>
          <p:cNvPicPr/>
          <p:nvPr/>
        </p:nvPicPr>
        <p:blipFill>
          <a:blip r:embed="rId4"/>
          <a:stretch/>
        </p:blipFill>
        <p:spPr>
          <a:xfrm>
            <a:off x="523800" y="2103480"/>
            <a:ext cx="57117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lowchart: Data 5"/>
          <p:cNvSpPr/>
          <p:nvPr/>
        </p:nvSpPr>
        <p:spPr>
          <a:xfrm>
            <a:off x="685800" y="3048120"/>
            <a:ext cx="7924680" cy="3047760"/>
          </a:xfrm>
          <a:prstGeom prst="flowChartInputOutpu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523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tive way of hearing what the other person is say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Swis721 BlkEx BT"/>
              </a:rPr>
              <a:t>Active Listening - Definitio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9A45-7566-4216-BF1E-40C3D53D33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1523880" y="3270240"/>
            <a:ext cx="5791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AEB9-EB8C-4374-B38D-28B6EF92D0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Swis721 BlkEx BT"/>
              </a:rPr>
              <a:t>Active Listening-Skill Step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ook at the person who is ta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ink about what is being 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ait your turn to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Say what you want to s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 flipH="1">
            <a:off x="5029200" y="4572000"/>
            <a:ext cx="182232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1676520" y="4010040"/>
            <a:ext cx="19047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3:55:11Z</dcterms:modified>
  <cp:revision>75</cp:revision>
  <dc:subject/>
  <dc:title>Paying Attention To Our Thinking</dc:title>
</cp:coreProperties>
</file>