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4.jpeg" ContentType="image/jpeg"/>
  <Override PartName="/ppt/media/image10.wmf" ContentType="image/x-wmf"/>
  <Override PartName="/ppt/media/image2.png" ContentType="image/png"/>
  <Override PartName="/ppt/media/image1.jpeg" ContentType="image/jpeg"/>
  <Override PartName="/ppt/media/image5.png" ContentType="image/png"/>
  <Override PartName="/ppt/media/image13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52F-E77C-43C1-A8F5-0E02432F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D59-F837-4063-8A3E-BAFBD168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7BF87-2C68-487A-9861-22A25FB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9ED41-BEC4-4153-AC92-FD5DACE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9F720-DF6D-40F4-8FD9-FDD0234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81AAB-6A28-4C36-B49E-D7781F2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1ADB0-393E-4EF4-A59D-CB00017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C772C-D24C-4A03-A0A2-AE591B88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9832C-92E6-4F35-92F4-82CB7C1B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C163F-9656-4BB1-91B6-79F8F9A4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C3912-CF03-43A6-8F51-3CFD88B4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3C49-85ED-4880-8449-EB6F0170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60E-5238-42BF-B0E4-E02639B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08669-B87B-424E-86BC-55BC9DAE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9F7F6-29B5-49E9-8AC7-3A6F577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3720D-A59D-4EC0-942A-5B7D688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A4F9-B856-48F4-AB1C-B4A0B4D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35E5B-44D1-49A2-B046-74FA0167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B82BC-3B94-4F3F-9414-9CEEBB4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60EA2-3F0C-4A99-A61E-ECE7D16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A1C90-BA68-4B8E-AED7-BAD57F8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A5EC5-8914-4EAF-B906-C8FA26D9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7D090-9B6E-428F-9378-74950FC6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00D-4A31-46FB-A1CA-A8A54CED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8C251-4762-4D7A-A14B-B586A433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9CFD2-0D29-4BF5-BFAD-4ECB6375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F6305-A379-4CBA-8A4C-4F008411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30043-5EC8-44D7-8143-5E0DAAEA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A99C5-4276-49CA-A844-4313FE5E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4A92B-8FD5-421B-AA9A-584B12E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6E25E-451B-4370-AB87-109DC39D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C2867-3906-4D66-BB39-4770486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53A85-1F95-43DC-94AC-DC6C4D0B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BBE56-BA11-460B-975C-D179789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ED89-C392-487A-9C00-31A15714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CFE3-3FE8-4722-B318-D4FB85E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DE25B-B30B-4EB9-BD52-02F4B068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F575B-4F8E-4249-AC6B-20590B17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0565C-7956-4A84-A8AF-9267393B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13733-24B8-4AC0-94F4-654FDE4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EEB20-0DE0-493A-8EE8-B9AC0768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8C07-55C7-441F-BA19-C08B312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C6E41-C62E-402F-923C-7F64B5E2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FF6C4-0480-47C3-8F87-E6C16B8A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B173E-5B09-4BF4-87B3-E7C008E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00CF-5325-4245-A92E-C04CFCEA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FD12-5EFE-4235-AE20-39897B11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FCCF5-B35A-4973-A9BD-0043006D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BCDC-D1AA-4CC7-9CD2-CB5B6EC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56F31-BEA0-4858-AEAC-ADB71467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DFC49-2E5A-4190-91F5-86A71F21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17B23-4C23-45BD-9B3F-3BDD6945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855D5-700D-4794-85A7-445E2B3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A17CF-3B35-4156-B996-4814434D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6B848-4E53-4AB1-8307-13BF413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1D774-A510-497D-8690-C992B747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5EE-F602-4BD8-9CE6-3BC4937B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3A303-C351-4AF8-A83B-69DC1AAB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95B38-B28B-4604-88D8-9C3A527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5BAC4-1A8D-402D-8DEF-FCFD531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9A0ED-7BA1-455B-9AED-B8B304E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BBF5E-46BE-4FA3-98DD-3AB2E8EB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05532-9A0C-4146-977A-5DCBE743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7CE86-E113-4CA8-9ADE-D8F99EFC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846D8-AE6D-4F22-8A28-1519E99E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37675-95F8-4EA4-8A21-9B6B3AF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E17EF-7015-48F3-9D9F-6FF06719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376-F661-4D67-B780-655BCA4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B97B1-F98D-4ECF-94E9-E4A2833F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7F5DC-84FF-4B19-8382-98E9643B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5E645-D73A-4C2A-B870-EB08BE0C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5DEE9-EF38-4834-BCE7-716C3CD7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9E297-3713-4F5E-A4DE-9F6D76A7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FF224-E65D-4E76-AB96-92ED254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22AAD-82FD-4495-97FC-B8E8F22A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DBDAD-9F18-4D7A-8925-9FBE2BD9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F0C2E-287E-4B38-A863-BD068632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FD90-6F1F-4DBC-97D4-68C669EC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BE0-2AAE-47E3-A029-5D1E638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08EB-11C8-4430-93FE-E99688B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1B1-C5CC-4E5C-BB43-9C3EE18E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91F-C770-4C35-999F-96C1F79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A6A9-D0CD-41E6-9BDD-CEB2F2A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79D-CD5F-4E4B-8461-98BD2F58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6421-2547-4EC2-B7AB-3A679DD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F4C9-B5B2-4B71-BA3F-E11F21D5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0A01-F1DA-42BC-9A47-DC116A3C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D794-6E9A-48A4-951A-8C95159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7C9E-B221-4C61-ADD0-1247623E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7602-878E-4BD6-B841-8BEC6BF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62A9-C696-4C1C-848A-3C21E5AB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135-DA77-45CC-9166-C127BC4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3367-9750-425E-82E1-A807B25C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2F3A-7A36-4C81-AC87-55ADE7D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D1C8-CE62-4A74-B5AB-071662E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7981-7A2C-40A9-A0D4-D7C9DE0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E187-2421-4090-9D53-D537E398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08C1-EAC2-4337-8802-6600934F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8426-75AC-42A0-A242-C3B21630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0790-8FDB-44AB-8FE6-C215D84D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14F2-4022-43E6-8361-E8B42F15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0D2E-4CDE-436D-BAC4-9D7CDE23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CC3-D110-4974-822A-0A5CBC95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04DB-56A1-4796-A549-331B15C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09A6-81DC-417E-868E-C963482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F56B-3BAD-454F-9A0C-0FF5B93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B3D4A-15D0-4DD1-A516-C27354C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9D4A-942E-4B6D-8B9A-48013CF3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2FEA-136B-4A07-BC3B-7F09476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C3D9-94C2-4E60-AC70-B61C8695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B5B6-3028-42CA-8E82-34BEB550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D1F7-665C-4849-AEEC-0CFE916C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11F8-1AB4-428F-8F17-8C33EE39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80A-9E14-4347-B109-62D4C27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D700-BB57-45D3-A17F-A7D450F7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CFE5-D598-4EF5-B657-2768FE6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10D6-3801-4807-9708-BCF315EB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9E39-F06D-425D-96FD-4AB16056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7C5D-297D-48F2-9DB5-328217C4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2160-9E42-47CC-B99A-3888996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EB61-C4A2-49C6-B4B6-D7C164A2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0EEA-C1C3-41BF-BA84-6993F6F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43D4-8DC4-4BA8-8660-456677F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9CE4-1AEA-4ECB-989E-0D4FF85F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1A1-B1A3-4950-A688-C2D1C597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E522-AF54-4C4A-B623-254131A9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F509-DA58-4A51-B4C1-ACCD50C5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5537-C759-4028-9C2D-501473D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9A8D-3CB4-460B-97AA-465BB0AE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F78F3-9F08-460B-8DC8-A20443C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A2A19-A616-44C5-A62D-76BF4388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1780-3005-4D4C-ADBF-0EC502B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C9C7-70C2-4F33-A460-E4FA69F4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4788-6DCD-48F7-B25E-474DC5D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A427-875A-4A45-9C70-46112FA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A71-68FA-47B6-9D71-E98EF41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5909-11F1-4163-A233-B8C5F05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8B35-6010-4A12-B589-6EEE3272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F001-E983-49F6-B738-AA6E7EF7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4316D-5907-4775-A828-FF6D1E78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3E2E4-B69F-4388-96B5-03859C47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12C15-DE20-496C-A31C-4DDA9DC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118C-1952-440C-A7E4-64D5C316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6F1E-6EB8-4F6F-8F18-E0301B8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5835-EE24-4DF4-8E69-082C344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4FB3-E644-4574-A876-0CC6146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5F6-38A7-48FD-85CE-AB11DA2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709B-D19C-4BEA-B99A-88C9986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7DB3-EA2F-47EE-AA2C-3E9A665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D8E12-5A2F-46A1-B507-37A49E8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7BD77-D778-43A3-AF90-95A2D510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2D78D-AA72-4A25-A632-9A3A54BE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9894-4CFE-4E80-B6E1-C5448951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6159B-6AFA-4E5A-97DC-F31F2260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B4336-5579-4814-ACFA-BA96C62A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5DEFB-C66C-4AF7-8741-9BF0B1B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730B-C7D4-4899-8989-D87CE2EF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61A-5630-47C9-A20D-0159B022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077B5-976E-4ADF-A763-B56E2B1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468E-CB23-432E-BBF4-84473AF5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30A83-29A0-4517-839F-2B7DF96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AD764-82A9-455E-BFE2-21FA094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2F617-2631-4523-98D7-881B0761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6B5E-1316-4C66-AF07-3F7D4703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DE79-1E41-4B4F-A794-A90A6765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9815A-6ECC-4BDE-B5A3-9397F225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A8B37-BB51-4C4B-B0A5-12E5BD0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698B8-B83D-4881-9762-48ACF22B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1040-A26E-4BA3-95A0-94554C3C96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A33-6776-4D2C-8AD8-2C501619B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9C7-B680-4B92-B0E6-4AF72B7BA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5D91-C035-4C90-A413-2AEDF9B39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5228-0755-47C3-941F-6F1DC925B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691-A1C8-4A3A-8E02-7C2691250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A39-7367-4580-B2BF-82E18E40B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CCFF-F403-4033-BA93-9D8213F7D7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520-790E-40EA-A90E-431FA5F4E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8D83-90F7-4F0A-BBE6-3A3DF3745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A4B7-87F8-4723-8C8A-ABF65BAFE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413-CCC9-44DD-9B8E-E8EC12F8D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49D-7AE6-47C1-8C9D-E4930E89E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C230-F0D5-4FB5-8155-A58BA1609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Rectangle 3" descr=""/>
          <p:cNvPicPr/>
          <p:nvPr/>
        </p:nvPicPr>
        <p:blipFill>
          <a:blip r:embed="rId2"/>
          <a:stretch/>
        </p:blipFill>
        <p:spPr>
          <a:xfrm>
            <a:off x="371520" y="1878120"/>
            <a:ext cx="4949640" cy="2017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6"/>
          <p:cNvSpPr/>
          <p:nvPr/>
        </p:nvSpPr>
        <p:spPr>
          <a:xfrm>
            <a:off x="762120" y="37339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9D72-A4D1-468D-88D6-77A8B97402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32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5257800" y="4038480"/>
            <a:ext cx="3567240" cy="2286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837720" y="167616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now and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a situation that ca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some type o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what you did i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that helped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not make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"/>
          <p:cNvPicPr/>
          <p:nvPr/>
        </p:nvPicPr>
        <p:blipFill>
          <a:blip r:embed="rId1"/>
          <a:stretch/>
        </p:blipFill>
        <p:spPr>
          <a:xfrm>
            <a:off x="1905120" y="0"/>
            <a:ext cx="5265720" cy="6840360"/>
          </a:xfrm>
          <a:prstGeom prst="rect">
            <a:avLst/>
          </a:prstGeom>
          <a:ln w="0">
            <a:noFill/>
          </a:ln>
        </p:spPr>
      </p:pic>
      <p:sp>
        <p:nvSpPr>
          <p:cNvPr id="635" name="TextBox 4"/>
          <p:cNvSpPr/>
          <p:nvPr/>
        </p:nvSpPr>
        <p:spPr>
          <a:xfrm>
            <a:off x="6181560" y="6378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cb8"/>
                </a:solidFill>
                <a:latin typeface="Arial"/>
              </a:rPr>
              <a:t>Program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AC35-241E-4225-985E-014943BDD7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597" name="Pentagon 10"/>
          <p:cNvGrpSpPr/>
          <p:nvPr/>
        </p:nvGrpSpPr>
        <p:grpSpPr>
          <a:xfrm>
            <a:off x="1395360" y="4694400"/>
            <a:ext cx="6053040" cy="901440"/>
            <a:chOff x="1395360" y="4694400"/>
            <a:chExt cx="6053040" cy="901440"/>
          </a:xfrm>
        </p:grpSpPr>
        <p:pic>
          <p:nvPicPr>
            <p:cNvPr id="598" name="Pentagon 10" descr=""/>
            <p:cNvPicPr/>
            <p:nvPr/>
          </p:nvPicPr>
          <p:blipFill>
            <a:blip r:embed="rId1"/>
            <a:stretch/>
          </p:blipFill>
          <p:spPr>
            <a:xfrm>
              <a:off x="1395360" y="4694400"/>
              <a:ext cx="60530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447920" y="4724280"/>
              <a:ext cx="57466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4572000" y="4038480"/>
            <a:ext cx="2624040" cy="20574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8380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two problem situ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identify your risk thoughts, feelings, and attitudes and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traight Connector 6"/>
          <p:cNvSpPr/>
          <p:nvPr/>
        </p:nvSpPr>
        <p:spPr>
          <a:xfrm>
            <a:off x="5867280" y="5715000"/>
            <a:ext cx="2514600" cy="30492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FB8A-1AF5-4715-97A0-2D56CAE601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Skill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1 – Stop and Think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2 – State the Proble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3 – Set a Goal and Ga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formation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4 – Think of Choic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Consequenc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5 – Make a Pl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6 – Do and Eval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5" descr=""/>
          <p:cNvPicPr/>
          <p:nvPr/>
        </p:nvPicPr>
        <p:blipFill>
          <a:blip r:embed="rId1"/>
          <a:srcRect l="0" t="0" r="58981" b="0"/>
          <a:stretch/>
        </p:blipFill>
        <p:spPr>
          <a:xfrm flipH="1">
            <a:off x="6933960" y="3048120"/>
            <a:ext cx="14554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80AE-7CA3-4D27-BDCF-A16EE6D82E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 attention to your warning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 your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7" descr="MCj03236140000[1]"/>
          <p:cNvPicPr/>
          <p:nvPr/>
        </p:nvPicPr>
        <p:blipFill>
          <a:blip r:embed="rId1"/>
          <a:stretch/>
        </p:blipFill>
        <p:spPr>
          <a:xfrm>
            <a:off x="5867280" y="3124080"/>
            <a:ext cx="2622600" cy="262584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1: Stop and Think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847C-8D6C-46C3-96A1-4D1558BFB8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1:  Identify a warning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2:  Describe what happ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3:  Identify a risk re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1"/>
          <a:srcRect l="47511" t="0" r="0" b="0"/>
          <a:stretch/>
        </p:blipFill>
        <p:spPr>
          <a:xfrm>
            <a:off x="5715000" y="3505320"/>
            <a:ext cx="2743200" cy="31114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2: State the Proble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5E4-08B5-4F17-BDA1-5DC2A3FD33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Swis721 BlkEx BT"/>
              </a:rPr>
              <a:t>Problem Solving – 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Swis721 BlkEx BT"/>
              </a:rPr>
              <a:t>Skill 3:</a:t>
            </a:r>
            <a:r>
              <a:rPr b="0" lang="en-US" sz="3200" spc="-1" strike="noStrike">
                <a:solidFill>
                  <a:srgbClr val="0070c0"/>
                </a:solidFill>
                <a:latin typeface="Swis721 BlkEx BT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Swis721 BlkEx BT"/>
              </a:rPr>
              <a:t>Set a Goal and Gather Informa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086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a pos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alistic 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w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know about the situ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4573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7484-B553-4F01-BAD4-C773EFAF9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Swis721 BlkEx BT"/>
              </a:rPr>
              <a:t>Problem Solving – 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Swis721 BlkEx BT"/>
              </a:rPr>
              <a:t>Skill 4:</a:t>
            </a:r>
            <a:r>
              <a:rPr b="0" lang="en-US" sz="4000" spc="-1" strike="noStrike">
                <a:solidFill>
                  <a:srgbClr val="0070c0"/>
                </a:solidFill>
                <a:latin typeface="Swis721 BlkEx BT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Swis721 BlkEx BT"/>
              </a:rPr>
              <a:t>Think of Choices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Swis721 BlkEx BT"/>
              </a:rPr>
              <a:t>and Consequenc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3055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Brainstorm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Think about the 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Pick a choic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to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"/>
          <p:cNvPicPr/>
          <p:nvPr/>
        </p:nvPicPr>
        <p:blipFill>
          <a:blip r:embed="rId1"/>
          <a:stretch/>
        </p:blipFill>
        <p:spPr>
          <a:xfrm flipH="1">
            <a:off x="5334120" y="3886200"/>
            <a:ext cx="23796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DE5-1490-456D-B86A-3D4D1DD737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Problem Solving – 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Skill 5:</a:t>
            </a:r>
            <a:r>
              <a:rPr b="0" lang="en-US" sz="3600" spc="-1" strike="noStrike">
                <a:solidFill>
                  <a:srgbClr val="0070c0"/>
                </a:solidFill>
                <a:latin typeface="Swis721 BlkEx BT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Make a Plan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Identify who, where and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Choose key Social Skill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elp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Identify what you will do/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Identify how you will do/say 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:  Decide on a thought that w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you ge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C37-6AD4-406F-9D4F-3D85BBE363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Problem Solving – 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Skill 6:</a:t>
            </a:r>
            <a:r>
              <a:rPr b="0" lang="en-US" sz="3600" spc="-1" strike="noStrike">
                <a:solidFill>
                  <a:srgbClr val="0070c0"/>
                </a:solidFill>
                <a:latin typeface="Swis721 BlkEx BT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Do and Evaluat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1:  Do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2:  Ask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3:  Decide what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" descr=""/>
          <p:cNvPicPr/>
          <p:nvPr/>
        </p:nvPicPr>
        <p:blipFill>
          <a:blip r:embed="rId1"/>
          <a:srcRect l="0" t="33781" r="0" b="0"/>
          <a:stretch/>
        </p:blipFill>
        <p:spPr>
          <a:xfrm flipH="1">
            <a:off x="4876560" y="3886200"/>
            <a:ext cx="3832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51:00Z</dcterms:modified>
  <cp:revision>46</cp:revision>
  <dc:subject/>
  <dc:title>Paying Attention To Our Thinking</dc:title>
</cp:coreProperties>
</file>