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B98-6165-467A-A1FE-0A6D43F3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565-C914-46D7-9B1E-D95A3715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2593-62A5-4522-91C9-2BBB2C92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E4D0-956B-41F6-BBDB-0F0E6364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1CB4-4AEE-4CEC-BDD5-77E812DD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4137-5368-40D2-9D67-C39A04C4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B0E2-ACEB-4CDD-B37D-D2AB0D97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5811-D8C1-4730-B0DB-4DD709EA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66C3-55B4-4F06-9163-3393E3AC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6B1C-D157-422C-9937-DB910E6F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5025-E01A-4013-A35D-F4BF6530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0C7-365B-4BA7-833C-1D93B6BD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396E-7DD6-46A8-930D-0AD00805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8D28-79E2-41A5-B23A-91B3FC8E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C395-9B6C-4A44-9745-8972DD84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3D9B-1B96-43FD-8207-623525F8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66A0-8207-4607-8ADD-C53F3667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A0F-2357-4913-A155-504A3897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3CB6-64EE-48A4-8E19-DFDFE4A0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B48-C66F-45A1-9ABC-A44CD744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3BC-7E66-49AF-86AE-9311F80D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3DE9-A451-4045-BBBD-4650691B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A3D3-83CE-44C8-ADC8-259778D6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375-0869-44B1-A11E-E2BC3938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CBB2-367C-41F9-AC8B-C7BC908D05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2FB9-0DB2-41A5-9544-813F367E63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3" descr=""/>
          <p:cNvPicPr/>
          <p:nvPr/>
        </p:nvPicPr>
        <p:blipFill>
          <a:blip r:embed="rId2"/>
          <a:stretch/>
        </p:blipFill>
        <p:spPr>
          <a:xfrm>
            <a:off x="66600" y="1725480"/>
            <a:ext cx="4950000" cy="2017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393840" y="3276720"/>
            <a:ext cx="590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Problem So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Skill 3: Set a Goal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Ga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s721 BlkEx BT"/>
              </a:rPr>
              <a:t>Goal Statemen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400" y="1599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trash the room so she knows not to push me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find a way to get the other person to believe me, that I did not do anything wro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B0CD-E198-4927-8B41-F2C4891B61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 flipH="1">
            <a:off x="5410080" y="3962520"/>
            <a:ext cx="27432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Swis721 BlkEx BT"/>
              </a:rPr>
              <a:t>Step 2:  Gather Information – Facts 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4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think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parate facts from opinions as a way of being objectiv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is means making a statement of what happened, who was involved and what was said and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 vs.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acts are objective and opinions are no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metimes our opinions are right on and sometimes they are dead wrong. It is important to know the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93CB-E9FB-45F4-89BB-7CA88FC160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Left-Right-Up Arrow 5"/>
          <p:cNvGrpSpPr/>
          <p:nvPr/>
        </p:nvGrpSpPr>
        <p:grpSpPr>
          <a:xfrm>
            <a:off x="1639800" y="5370480"/>
            <a:ext cx="5639040" cy="1146240"/>
            <a:chOff x="1639800" y="5370480"/>
            <a:chExt cx="5639040" cy="1146240"/>
          </a:xfrm>
        </p:grpSpPr>
        <p:pic>
          <p:nvPicPr>
            <p:cNvPr id="147" name="Left-Right-Up Arrow 5" descr=""/>
            <p:cNvPicPr/>
            <p:nvPr/>
          </p:nvPicPr>
          <p:blipFill>
            <a:blip r:embed="rId1"/>
            <a:stretch/>
          </p:blipFill>
          <p:spPr>
            <a:xfrm>
              <a:off x="1639800" y="5370480"/>
              <a:ext cx="563904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866960" y="6058080"/>
              <a:ext cx="5181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Swis721 BlkEx BT"/>
              </a:rPr>
              <a:t>Step 2:  Gather Information – The Other Person’s Thoughts and Feeling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figure out how someone else might be fee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BBCD-6BF4-4F11-A7EB-721629FB76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48E7-BA5F-4DC8-B1BF-E87CEA88CF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Swis721 BlkEx BT"/>
              </a:rPr>
              <a:t>Thinking Report – Ms. Shells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762120" y="1676520"/>
          <a:ext cx="7772400" cy="4730760"/>
        </p:xfrm>
        <a:graphic>
          <a:graphicData uri="http://schemas.openxmlformats.org/drawingml/2006/table">
            <a:tbl>
              <a:tblPr/>
              <a:tblGrid>
                <a:gridCol w="2361960"/>
                <a:gridCol w="5410440"/>
              </a:tblGrid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told Shewan that $50 was missing from Mr. Brooks’ desk.  She denied knowing anything about i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gh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I think she knows what happened to the mo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She certainly is getting me up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I can’t let her raise her voice to 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ing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tudes/Belief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F2AC-B3C2-479B-8E44-18CEDDE18C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Swis721 BlkEx BT"/>
              </a:rPr>
              <a:t>Thinking Report – Ms. Porter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38080" y="1676520"/>
          <a:ext cx="7772400" cy="4562280"/>
        </p:xfrm>
        <a:graphic>
          <a:graphicData uri="http://schemas.openxmlformats.org/drawingml/2006/table">
            <a:tbl>
              <a:tblPr/>
              <a:tblGrid>
                <a:gridCol w="2362320"/>
                <a:gridCol w="54100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told Shelly that I think she cheated on her test and she got angr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gh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I can’t let her think she can get away with che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She is hanging with the wrong crow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I want her parents to know what is happening at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ing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tudes/Belief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7CA9-50EC-4390-9B18-6F4EB7C3CC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  <a:ea typeface="Tahoma"/>
              </a:rPr>
              <a:t>Homework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0" name="Picture 6" descr="C:\Documents and Settings\BOP37837\Local Settings\Temporary Internet Files\Content.IE5\92NO5SJ1\MP900439393[1].jpg"/>
          <p:cNvPicPr/>
          <p:nvPr/>
        </p:nvPicPr>
        <p:blipFill>
          <a:blip r:embed="rId1"/>
          <a:stretch/>
        </p:blipFill>
        <p:spPr>
          <a:xfrm>
            <a:off x="990720" y="4876920"/>
            <a:ext cx="3367080" cy="19810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10666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ke a problem situation through all the steps of the first 3 problem solving skil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s is a problem you will work on through the rest of the problem solving less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ach of you will have a chance to r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lay the first three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uring our next sess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1537-B3F9-46F6-BA8B-A13137B3E1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70c0"/>
                </a:solidFill>
                <a:latin typeface="Tahoma"/>
              </a:rPr>
              <a:t>Homework Review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5" name="Pentagon 10"/>
          <p:cNvGrpSpPr/>
          <p:nvPr/>
        </p:nvGrpSpPr>
        <p:grpSpPr>
          <a:xfrm>
            <a:off x="4138560" y="5230800"/>
            <a:ext cx="4603680" cy="1127160"/>
            <a:chOff x="4138560" y="5230800"/>
            <a:chExt cx="4603680" cy="1127160"/>
          </a:xfrm>
        </p:grpSpPr>
        <p:pic>
          <p:nvPicPr>
            <p:cNvPr id="106" name="Pentagon 10" descr=""/>
            <p:cNvPicPr/>
            <p:nvPr/>
          </p:nvPicPr>
          <p:blipFill>
            <a:blip r:embed="rId1"/>
            <a:stretch/>
          </p:blipFill>
          <p:spPr>
            <a:xfrm>
              <a:off x="4138560" y="5230800"/>
              <a:ext cx="460368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191120" y="5257800"/>
              <a:ext cx="424152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8" descr="C:\Documents and Settings\BOP37837\Local Settings\Temporary Internet Files\Content.IE5\6KDAHNUR\MC900239929[1].wmf"/>
          <p:cNvPicPr/>
          <p:nvPr/>
        </p:nvPicPr>
        <p:blipFill>
          <a:blip r:embed="rId2"/>
          <a:stretch/>
        </p:blipFill>
        <p:spPr>
          <a:xfrm>
            <a:off x="6553080" y="5029200"/>
            <a:ext cx="1957680" cy="1535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76212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ck one real life problem situation and practice the first 2 problem solving ski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were not able to do the first 2 skills while the problem was actually happening, then you were to write out how you could have done      each ski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616C-1525-454F-9B6D-3DD626AA2D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1: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top!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 attention to your warning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2: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i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duce your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MCj03236140000[1]"/>
          <p:cNvPicPr/>
          <p:nvPr/>
        </p:nvPicPr>
        <p:blipFill>
          <a:blip r:embed="rId1"/>
          <a:stretch/>
        </p:blipFill>
        <p:spPr>
          <a:xfrm>
            <a:off x="5867280" y="3124080"/>
            <a:ext cx="2622600" cy="26258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3100"/>
                </a:solidFill>
                <a:latin typeface="Swis721 BlkEx BT"/>
              </a:rPr>
              <a:t>Problem Solving – </a:t>
            </a:r>
            <a:br>
              <a:rPr sz="3600"/>
            </a:br>
            <a:r>
              <a:rPr b="0" lang="en-US" sz="3600" spc="-1" strike="noStrike">
                <a:solidFill>
                  <a:srgbClr val="313100"/>
                </a:solidFill>
                <a:latin typeface="Swis721 BlkEx BT"/>
              </a:rPr>
              <a:t>Skill 1: Stop and Think 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08CB-2377-4797-884E-D9A0DD4EB7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ep 1:  Identify a warning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ep 2:  Describe what happe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bj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ep 3:  Identify a risk reac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rcRect l="47511" t="0" r="0" b="0"/>
          <a:stretch/>
        </p:blipFill>
        <p:spPr>
          <a:xfrm>
            <a:off x="6012000" y="3505320"/>
            <a:ext cx="2743200" cy="31114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3100"/>
                </a:solidFill>
                <a:latin typeface="Swis721 BlkEx BT"/>
              </a:rPr>
              <a:t>Problem Solving – </a:t>
            </a:r>
            <a:br>
              <a:rPr sz="3600"/>
            </a:br>
            <a:r>
              <a:rPr b="0" lang="en-US" sz="3600" spc="-1" strike="noStrike">
                <a:solidFill>
                  <a:srgbClr val="313100"/>
                </a:solidFill>
                <a:latin typeface="Swis721 BlkEx BT"/>
              </a:rPr>
              <a:t>Skill 2: State the Proble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685800" y="4387680"/>
            <a:ext cx="5334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(think/feel) ____________ because _______________, and my risk reaction is ____ _____________________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A378-72F4-456C-8AE8-B118A704B8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Swis721 BlkEx BT"/>
              </a:rPr>
              <a:t>Problem Solving –  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Swis721 BlkEx BT"/>
              </a:rPr>
              <a:t>Skill 3:</a:t>
            </a:r>
            <a:r>
              <a:rPr b="0" lang="en-US" sz="3200" spc="-1" strike="noStrike">
                <a:solidFill>
                  <a:srgbClr val="0070c0"/>
                </a:solidFill>
                <a:latin typeface="Swis721 BlkEx BT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Swis721 BlkEx BT"/>
              </a:rPr>
              <a:t>Set a Goal and Gather Information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70866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a posi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realistic 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2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other person’s thoughts and feelin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6402240" y="1600200"/>
            <a:ext cx="2455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99D6-136C-4FDF-8154-B054C04741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Swis721 BlkEx BT"/>
              </a:rPr>
              <a:t>Step 1: Identify a Positive and Realistic Goal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086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your goal realistic–something you can make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positive–something that doesn’t hurt you or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imple goal statement starting with the words, “I want…..” and then describe the 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 I want…, but I don’t want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7086600" y="4292640"/>
            <a:ext cx="16938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2: Gather Information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67816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 think the other person is thinking and fe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6BBE-9158-415D-8246-62CDD04C7C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6553080" y="3505320"/>
            <a:ext cx="169416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774D-74A5-4D09-9AB1-645549C254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Swis721 BlkEx BT"/>
              </a:rPr>
              <a:t>Step 1: Identify a Positive and Realistic Goal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238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tive 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do not s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 to hurt ourselves 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s. (Because t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ually just make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 worse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listic 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thing th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can actually make happ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7010280" y="1752480"/>
            <a:ext cx="144648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s721 BlkEx BT"/>
              </a:rPr>
              <a:t>Goal Statemen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18284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he other person to say she is sorry and just leave m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go back into the ro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ell the other person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find a way to get out of this place right now and take whatever I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7C60-80B2-406B-841C-F2A4B606A6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2-12T16:37:00Z</dcterms:modified>
  <cp:revision>71</cp:revision>
  <dc:subject/>
  <dc:title>Paying Attention To Our Thinking</dc:title>
</cp:coreProperties>
</file>