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A4E-8BA6-49ED-88D3-74418B3D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F8A-E80E-463C-9A27-39EDF2F0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EB7D4-31AC-4F1F-9D07-CCA4DAB9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13294-C636-4BCC-985D-3782769A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64CE0-3B16-4E20-9EE4-C2D72B02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5BA8E-93B3-4638-A326-4BB93BB5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CFEE5-9811-4535-957B-19777905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B76D3-E98B-443C-B8DC-3F241FF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DC1E9-5CD8-402F-93BF-8ADA812E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431AE-D668-40AE-AA9C-B3B177A5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4CC8E-136E-4534-A9AA-7D9B0FB5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F973B-6862-43D4-84FC-1E57F548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20B-0125-493F-BBC7-18D92E93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C43F7-D286-4973-9E9B-62A630B1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75E0A-FCD0-4D1F-A96A-6FB541E1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8B694-26BC-4605-B21A-AA66DFA7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25972-A5E2-470C-ADB6-26C47B52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F5AEA-DD81-491C-8CA8-6B64CF68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BD47F-4C13-42F5-BD2E-53485310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DE39C-1D9D-410A-9A33-F052E864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95A50-8202-4042-BD12-F1692A1B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940BA-EB39-427C-9A57-102CCEE9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E6DF7-24CE-4273-8BE0-3953C502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B0D-CFA9-4A66-8001-AB2A6F1C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A4337-17BC-4B1C-A8DD-6398246A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29D59-54F7-426F-AE9C-D511E42F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63A8C-589E-4DB9-8EA7-18C4E8D2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1368E-218A-4585-BEB2-C9CEEB50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F27C6-DBC3-414F-A57F-756069E3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A255A-3574-45D4-91DE-188C439D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47D59-DCEF-4B3C-A109-18C626E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FAD7D-A0FA-4CF4-AD71-D587CC6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771A8-688F-4BE2-A931-8F6F26A6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2A0C1-D096-40D0-819C-A8CEB803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57E2-7BF2-4B4A-96B4-80BF561E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53F31-A57E-4724-ADE8-BE38CFBC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6278C-773F-49B3-A77C-9883A272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C9798-6BC3-459C-A3F3-C6273B14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69811-A7B8-44E5-B453-6DD3F043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D9C63-0898-4824-BCD1-3E807BC7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AAD75-9135-42F7-9E72-79AB7320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897C8-6CD8-4DE0-A6C7-5422FC2D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66E43-F832-4D65-A5B1-74021B52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B3B1A-7511-4B0E-B3D8-83892CCA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A3735-2D0C-4304-9E1B-2E907585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EAD5-7202-413F-B965-93F3F0AD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7AEAC-11CB-433D-A30F-5862DFC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D28DD-4AFC-44F5-8086-57C302C3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C86AA-61E8-4E0D-B610-C3B88090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974D7-AE67-47AF-B588-F6EB2295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7DBF1-1FD3-4FD6-B7AC-07C3EE50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4E119-F122-408A-B147-15F3FC35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7BEE1-F1A4-4404-B4FB-69EB223D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4CA93-FD26-4DDF-AB8A-4539B772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97D08-7CBC-417A-9791-17196779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A9ACB-0DDB-40E1-A7F6-CCB32C46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FEEA-ACBE-48CF-83F3-902D0280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5A2BE-FDC7-4231-BFA2-353BD39B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E237E-8DFE-47B6-B20F-1AA2B73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60489-48A1-4C0C-93DA-138F65FC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FAC59-19E3-4C92-83E5-787C8C5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EA828-6F52-474E-80CB-A9A8FCD2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2F641-419E-4980-9198-80F447FF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B1017-FB1E-4990-A984-7BD6DB88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46A6F-9461-4EA9-89B3-58F7F4F7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244B8-CE0B-45C6-B8EB-9B20D293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E4FC2-3497-4627-990B-08DF9162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EC28-F08D-44F4-9A28-25E97642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33582-ED98-42F4-91A8-75435F81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5A6F8-47C5-4342-8C1D-86CD5FE3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6E0B3-F1F3-4691-BD18-39A5A6B2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B9C55-2DE5-4947-9B6D-05B1DA2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96D22-D4D8-4465-9E3E-A4FD8267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80834-C44C-4B2F-9BEA-AC40085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97019-E8C7-4808-9575-F8DBB34C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000B5-BB96-4D19-9823-894EF92B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5A881-8D4B-4391-B924-A0A6923B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7412-9EA8-4538-886D-5971EB45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774A-B8CD-4F12-A6E4-21FEE6ED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C6CA-A7CE-4B57-A95A-6033A626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DE9-91B2-4FAD-AB1D-1C8AFC37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E411-0A18-46EA-9F49-61626F48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E86F-3D30-48F0-BE73-F4F5B811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6125-4A90-4D41-86F3-B88BFA69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9BD3-1AF7-4D69-8473-DD2AE579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31D6-5E67-4CD8-9270-BAAF224D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04AE-AAB7-40D1-A76C-4EF7C8A5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1361-8EEF-4666-94DB-2E2069B2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19D9-32A6-4EED-BC3C-06A686D0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CBDE-0EDA-4EF2-847C-543C931D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7235-0A70-4441-951A-6A257E2D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53E-AE45-4D7E-8C35-829FCBED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08D5-34BF-4954-8C62-53FB845A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8956-B2B8-42D3-A1F4-458E8120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38F2-8620-4A65-8AE6-7419459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AA6A-9718-460C-BCDA-8847C21A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37FB-F6EA-463F-8C0A-79C29508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61A6-9087-4B9E-8C91-DE9C44F5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5497-908A-441B-A0EA-BC773D4A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694D-512F-4E75-B8E1-71884420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DABB-3B28-486D-8BE6-4E6BCEE4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5963-951D-4389-943B-B5733C0D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2FB-E195-47F4-BE37-3EE4523D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D2F9-9495-412C-8CE8-4B26ACCB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E45A-71EB-4B12-9C9F-7AB71138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5082-CF22-4B26-AA65-6B08367D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DB6A-60AF-4B77-89B7-46301421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441E-0D8F-49B3-B099-202F519E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C98AD-FF30-4858-904E-45C5834C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40F9-0C55-4B87-8394-A3E59CC4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81B2-E44D-4F01-B3FD-6CCFBBF5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F481-2347-4525-A1E9-CC728786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CF2EA-27C9-4554-99AC-CFA14C8E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895-6C08-481D-A396-D88999E1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7455-101E-4918-B54A-45D34A06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3839-3A59-430A-A4EA-F6A769C0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F70AE-03B5-4F14-B969-5B614C0E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AF0FF-4223-46A2-A9E7-15094531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A6A4D-986D-49B2-AF04-DDDF16A7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1DDFA-BB68-4604-A75B-3A9D5182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16D82-5319-46BF-A95E-727D342F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4819-5490-4C60-BDA5-BC9EA438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B2802-C867-48D9-B3E7-601E9DF7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9985-8E7F-4ECD-A93F-DC6E88BE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347-7C80-4C4C-8464-1A240D0D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78F3E-0B3E-4B8A-9094-968EE8DA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2DE4F-E578-4EE0-80C1-217B9716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5CF6B-60B1-4398-A35F-8AFCE162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F772E-BA6E-44EA-99A6-E31D6F1F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DB35-1353-49DD-ABB3-B2617272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3FA04-4D9C-46CB-AD7C-A14527FF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C9356-F70D-438E-8807-F95E8AC0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523AF-84A8-4DEE-916E-9F5BE94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2B08A-2245-46F8-9F94-0F884800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273D4-51E2-4A59-95B0-2A9CEAE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66A-DE5E-4A92-9E78-66412B9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5790E-917D-4D49-863B-0E4D1CDD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CD827-473C-438B-ADB3-98726C46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F920C-53CD-4B98-964C-39789AF7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55D9-90FE-4BCF-BA02-39856E67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AE6AF-3EBA-49E8-B22B-E709774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C9CE-4B50-4C20-B911-F2E081CC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1358E-8014-4F9C-948D-93DA61EF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CE144-2E93-4A5B-88EA-965D5A8B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1A404-5362-48B9-A9E3-E6182953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DB31B-A767-4866-8C8E-025498DC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261-3CD0-43F7-B9B1-CC15A9DC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41BE6-2D8E-4EB7-80BC-0BD57110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17EC9-E267-4320-8EA9-A7097EB6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FD2E0-2600-4570-9DC7-E6A0C6C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52ECD-5C84-46BF-AF9E-E336B0D9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66C98-A7A4-4497-B7C1-B3E7A380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06E68-E833-4A77-A66E-0672909A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B7AF7-49C1-49E6-A6C9-175919F2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F2120-DC49-49E3-A1A5-4D53C1E4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719B7-13EE-40A3-A36E-2A4467F0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CDDC4-451F-4BEA-BCD0-93608A76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2DE-4CCB-4642-928B-BAC98B41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E7AD6-7CFB-4643-BFCE-C7F38EAB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9C048-CA97-401B-B7D5-6C8F3C2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58F77-01AE-40FE-BA64-460189A6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949B3-AB77-49C3-A5D5-946866CD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F9A00-0C42-4EDF-9FB5-C448028A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28278-6855-4CB1-91EF-D967B2F0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CD6B0-E536-45F4-841F-EE6D5CE9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5E4D7-235E-44F6-9932-A3235EC4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7DFCB-DFB4-4B5E-9AB2-EC92B51D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5F5C4-1D6D-4F51-AAC0-50C1CFA2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BA7B-4A51-4A00-84D9-D9DE96414E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A782-A4C3-4B2E-AFF6-11E54E633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C3C3-7086-474D-B1B2-95D493A04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FA7C-7133-46B1-BE55-5DF295BA08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DC0E-C4F9-4B5F-BFE7-0B631E7BB8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3AE9-7551-4D0B-95D2-23DFDFA6A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4704-685B-4BB0-B312-7FCB2384A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8B3-2EBD-4850-8A1A-BC3D543170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5F0A-302E-4300-A92B-54471D0AF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BBCA-7CEC-4C6F-AF80-88F85BB78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E4FE-E81B-4660-93CF-8A925B30A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71CC-5512-4D8A-8FA0-11B0BBE19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E750-412D-44B6-9065-1A17329DA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01FE-4D19-45B3-AC6D-24CE6DC0A0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592" name="TextBox 6"/>
          <p:cNvSpPr/>
          <p:nvPr/>
        </p:nvSpPr>
        <p:spPr>
          <a:xfrm>
            <a:off x="457200" y="32767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Cognitive Self-Chan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  <p:pic>
        <p:nvPicPr>
          <p:cNvPr id="594" name="Rectangle 3" descr=""/>
          <p:cNvPicPr/>
          <p:nvPr/>
        </p:nvPicPr>
        <p:blipFill>
          <a:blip r:embed="rId4"/>
          <a:stretch/>
        </p:blipFill>
        <p:spPr>
          <a:xfrm>
            <a:off x="66600" y="1779480"/>
            <a:ext cx="5711760" cy="1609920"/>
          </a:xfrm>
          <a:prstGeom prst="rect">
            <a:avLst/>
          </a:prstGeom>
          <a:ln w="0">
            <a:noFill/>
          </a:ln>
        </p:spPr>
      </p:pic>
      <p:sp>
        <p:nvSpPr>
          <p:cNvPr id="595" name="TextBox 6"/>
          <p:cNvSpPr/>
          <p:nvPr/>
        </p:nvSpPr>
        <p:spPr>
          <a:xfrm>
            <a:off x="457200" y="41911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tep 3 – Use New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879E-2098-4B27-8F2A-08E6A428C5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 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598" name="Pentagon 10"/>
          <p:cNvGrpSpPr/>
          <p:nvPr/>
        </p:nvGrpSpPr>
        <p:grpSpPr>
          <a:xfrm>
            <a:off x="938160" y="5230800"/>
            <a:ext cx="7804080" cy="1127160"/>
            <a:chOff x="938160" y="5230800"/>
            <a:chExt cx="7804080" cy="1127160"/>
          </a:xfrm>
        </p:grpSpPr>
        <p:pic>
          <p:nvPicPr>
            <p:cNvPr id="599" name="Pentagon 10" descr=""/>
            <p:cNvPicPr/>
            <p:nvPr/>
          </p:nvPicPr>
          <p:blipFill>
            <a:blip r:embed="rId1"/>
            <a:stretch/>
          </p:blipFill>
          <p:spPr>
            <a:xfrm>
              <a:off x="938160" y="5230800"/>
              <a:ext cx="78040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990720" y="5257800"/>
              <a:ext cx="74419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1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5410080" y="4038480"/>
            <a:ext cx="3124440" cy="244980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3"/>
          <p:cNvSpPr/>
          <p:nvPr/>
        </p:nvSpPr>
        <p:spPr>
          <a:xfrm>
            <a:off x="83808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situation (a recent or past time when you broke a rule or hurt someone) informally, but brie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read your thinking report, without further comment or expla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531D-D155-4E37-B87A-B5CF06F00F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  <a:ea typeface="Tahoma"/>
              </a:rPr>
              <a:t>Cognitive Self Change 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Pay Attention to Our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 Recognize Ri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7030a0"/>
                </a:solidFill>
                <a:uFillTx/>
                <a:latin typeface="Arial"/>
              </a:rPr>
              <a:t>3.  Use New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C:\Documents and Settings\BOP37837\Local Settings\Temporary Internet Files\Content.IE5\92NO5SJ1\MP900439332[1].jpg"/>
          <p:cNvPicPr/>
          <p:nvPr/>
        </p:nvPicPr>
        <p:blipFill>
          <a:blip r:embed="rId1"/>
          <a:srcRect l="29633" t="0" r="0" b="0"/>
          <a:stretch/>
        </p:blipFill>
        <p:spPr>
          <a:xfrm>
            <a:off x="5943600" y="3429000"/>
            <a:ext cx="28954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3D57-85A8-435A-91DA-CE7F6F6F6B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3100"/>
                </a:solidFill>
                <a:latin typeface="Tahoma"/>
                <a:ea typeface="Tahoma"/>
              </a:rPr>
              <a:t>Use New Thinking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428640" y="18284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new ways of thinking can I use that will lead to different consequences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ll I feel okay about myself if I think this w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11" descr="C:\Documents and Settings\BOP37837\Local Settings\Temporary Internet Files\Content.IE5\J2NU0OSC\MP900444486[1].jpg"/>
          <p:cNvPicPr/>
          <p:nvPr/>
        </p:nvPicPr>
        <p:blipFill>
          <a:blip r:embed="rId1"/>
          <a:stretch/>
        </p:blipFill>
        <p:spPr>
          <a:xfrm>
            <a:off x="0" y="3429000"/>
            <a:ext cx="34639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414A-65AF-4E19-A1B2-60E755C593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600a6"/>
                </a:solidFill>
                <a:latin typeface="Tahoma"/>
                <a:ea typeface="Tahoma"/>
              </a:rPr>
              <a:t>Cognitive Self Change Ste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Pay Attention to Our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Recognize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Use New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6" descr="C:\Documents and Settings\BOP37837\Local Settings\Temporary Internet Files\Content.IE5\92NO5SJ1\MP900439332[1].jpg"/>
          <p:cNvPicPr/>
          <p:nvPr/>
        </p:nvPicPr>
        <p:blipFill>
          <a:blip r:embed="rId1"/>
          <a:stretch/>
        </p:blipFill>
        <p:spPr>
          <a:xfrm>
            <a:off x="4495680" y="3962520"/>
            <a:ext cx="35816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1905120" y="0"/>
            <a:ext cx="5265720" cy="6840360"/>
          </a:xfrm>
          <a:prstGeom prst="rect">
            <a:avLst/>
          </a:prstGeom>
          <a:ln w="0">
            <a:noFill/>
          </a:ln>
        </p:spPr>
      </p:pic>
      <p:sp>
        <p:nvSpPr>
          <p:cNvPr id="616" name="TextBox 4"/>
          <p:cNvSpPr/>
          <p:nvPr/>
        </p:nvSpPr>
        <p:spPr>
          <a:xfrm>
            <a:off x="6181560" y="6378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cb8"/>
                </a:solidFill>
                <a:latin typeface="Arial"/>
              </a:rPr>
              <a:t>Program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5562720" y="3886200"/>
            <a:ext cx="3041640" cy="2514600"/>
          </a:xfrm>
          <a:prstGeom prst="rect">
            <a:avLst/>
          </a:prstGeom>
          <a:ln w="0">
            <a:noFill/>
          </a:ln>
        </p:spPr>
      </p:pic>
      <p:sp>
        <p:nvSpPr>
          <p:cNvPr id="61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656D-E20C-4EC5-B7E9-79AC35949B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5335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for situations between now and the next lesson where you feel some degree of tension or stress or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thinking report on th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circle key thoughts, feelings, and beliefs that put you at     risk for getting into trou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1-28T19:28:51Z</dcterms:modified>
  <cp:revision>67</cp:revision>
  <dc:subject/>
  <dc:title>Paying Attention To Our Thinking</dc:title>
</cp:coreProperties>
</file>