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wmf" ContentType="image/x-wmf"/>
  <Override PartName="/ppt/media/image7.jpeg" ContentType="image/jpeg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C072-D6A8-4284-B872-ED86985B9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0D10-7B23-4528-9BD4-90B4ABC9F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F768-2F7C-41FA-B8BC-414DFB271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B3E8-4CBA-4F67-BB23-5BF28CDEA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BCE31-DEDA-4E18-B417-F05C8C20B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502D4-ABEB-42AE-8250-865DD2E9F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8ED96-CF8F-4BE8-887D-9AE8C801F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DC06C-7539-4973-B1C6-FF890FEBA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C3F60-04BC-4542-B86A-A6FE225DA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614BA-ED09-41D1-8C77-7124CEC43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2506C-9375-4E94-B8F8-6AFB0926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133A-7D07-475F-9165-445B20BF1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5955E-A273-4734-A09A-4AF1372F2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19C2E-BFD6-4527-9A62-3425270B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D22E5-650F-4E06-98D1-4FD2224A6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B4686-E173-4669-B4DB-BE46DC91D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63D81-986A-4944-A9DA-E330CBEEA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9A1A-62DB-4CB2-9CD4-80BBB2233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D873-1CBB-4D45-8CF9-1AEFF193C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FE11-19D0-455D-B220-5DBF34548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EA9E-F985-4841-A6C0-2C8D85EE9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8BBC-9ED4-42E8-A5F4-0D9204032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21DE-A483-4B52-B28A-72AAA209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E418-1EB4-41FA-82F9-8054A31D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38DCF-8523-468D-BEB7-12D83B3B7FA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F09A4-D089-4958-867E-B012091ACD5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Lighter swirl 1.jpg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7"/>
          <p:cNvSpPr/>
          <p:nvPr/>
        </p:nvSpPr>
        <p:spPr>
          <a:xfrm>
            <a:off x="0" y="0"/>
            <a:ext cx="8763120" cy="1828800"/>
          </a:xfrm>
          <a:prstGeom prst="rect">
            <a:avLst/>
          </a:prstGeom>
          <a:solidFill>
            <a:srgbClr val="ffffe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"/>
          <p:cNvPicPr/>
          <p:nvPr/>
        </p:nvPicPr>
        <p:blipFill>
          <a:blip r:embed="rId2"/>
          <a:stretch/>
        </p:blipFill>
        <p:spPr>
          <a:xfrm>
            <a:off x="1752480" y="609480"/>
            <a:ext cx="990720" cy="9828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6"/>
          <p:cNvSpPr/>
          <p:nvPr/>
        </p:nvSpPr>
        <p:spPr>
          <a:xfrm>
            <a:off x="609480" y="3200400"/>
            <a:ext cx="792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Swis721 BlkEx BT"/>
              </a:rPr>
              <a:t>Cognitive Self-Chang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"/>
          <p:cNvPicPr/>
          <p:nvPr/>
        </p:nvPicPr>
        <p:blipFill>
          <a:blip r:embed="rId3"/>
          <a:stretch/>
        </p:blipFill>
        <p:spPr>
          <a:xfrm>
            <a:off x="3200400" y="380880"/>
            <a:ext cx="3989520" cy="1308240"/>
          </a:xfrm>
          <a:prstGeom prst="rect">
            <a:avLst/>
          </a:prstGeom>
          <a:ln w="0">
            <a:noFill/>
          </a:ln>
        </p:spPr>
      </p:pic>
      <p:pic>
        <p:nvPicPr>
          <p:cNvPr id="102" name="Rectangle 3" descr=""/>
          <p:cNvPicPr/>
          <p:nvPr/>
        </p:nvPicPr>
        <p:blipFill>
          <a:blip r:embed="rId4"/>
          <a:stretch/>
        </p:blipFill>
        <p:spPr>
          <a:xfrm>
            <a:off x="146160" y="2004840"/>
            <a:ext cx="5705280" cy="1609920"/>
          </a:xfrm>
          <a:prstGeom prst="rect">
            <a:avLst/>
          </a:prstGeom>
          <a:ln w="0">
            <a:noFill/>
          </a:ln>
        </p:spPr>
      </p:pic>
      <p:sp>
        <p:nvSpPr>
          <p:cNvPr id="103" name="TextBox 6"/>
          <p:cNvSpPr/>
          <p:nvPr/>
        </p:nvSpPr>
        <p:spPr>
          <a:xfrm>
            <a:off x="609480" y="441972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Swis721 BlkEx BT"/>
              </a:rPr>
              <a:t>Step 2 – Recognize Ri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8C4A6-8391-4024-806D-608890232DE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Tahoma"/>
              </a:rPr>
              <a:t>Homework Review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06" name="Pentagon 10"/>
          <p:cNvGrpSpPr/>
          <p:nvPr/>
        </p:nvGrpSpPr>
        <p:grpSpPr>
          <a:xfrm>
            <a:off x="938160" y="5230800"/>
            <a:ext cx="7804080" cy="1127160"/>
            <a:chOff x="938160" y="5230800"/>
            <a:chExt cx="7804080" cy="1127160"/>
          </a:xfrm>
        </p:grpSpPr>
        <p:pic>
          <p:nvPicPr>
            <p:cNvPr id="107" name="Pentagon 10" descr=""/>
            <p:cNvPicPr/>
            <p:nvPr/>
          </p:nvPicPr>
          <p:blipFill>
            <a:blip r:embed="rId1"/>
            <a:stretch/>
          </p:blipFill>
          <p:spPr>
            <a:xfrm>
              <a:off x="938160" y="5230800"/>
              <a:ext cx="780408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990720" y="5257800"/>
              <a:ext cx="7441920" cy="10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9" name="Picture 8" descr="C:\Documents and Settings\BOP37837\Local Settings\Temporary Internet Files\Content.IE5\6KDAHNUR\MC900239929[1].wmf"/>
          <p:cNvPicPr/>
          <p:nvPr/>
        </p:nvPicPr>
        <p:blipFill>
          <a:blip r:embed="rId2"/>
          <a:stretch/>
        </p:blipFill>
        <p:spPr>
          <a:xfrm>
            <a:off x="5410080" y="4038480"/>
            <a:ext cx="3124440" cy="24498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"/>
          <p:cNvSpPr/>
          <p:nvPr/>
        </p:nvSpPr>
        <p:spPr>
          <a:xfrm>
            <a:off x="838080" y="1676520"/>
            <a:ext cx="77724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scribe the situation briefl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d your thinking report – without further comment or explan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A295A-21CD-46C1-B832-FCDDB5924AF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Tahoma"/>
                <a:ea typeface="Tahoma"/>
              </a:rPr>
              <a:t>Cognitive Self Change  </a:t>
            </a:r>
            <a:br>
              <a:rPr sz="4400"/>
            </a:b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3" name="Picture 6" descr="C:\Documents and Settings\BOP37837\Local Settings\Temporary Internet Files\Content.IE5\92NO5SJ1\MP900439332[1].jpg"/>
          <p:cNvPicPr/>
          <p:nvPr/>
        </p:nvPicPr>
        <p:blipFill>
          <a:blip r:embed="rId1"/>
          <a:srcRect l="22226" t="0" r="0" b="0"/>
          <a:stretch/>
        </p:blipFill>
        <p:spPr>
          <a:xfrm>
            <a:off x="5791320" y="3124080"/>
            <a:ext cx="2935080" cy="25275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 Pay Attention to Our Thin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7030a0"/>
                </a:solidFill>
                <a:uFillTx/>
                <a:latin typeface="Arial"/>
              </a:rPr>
              <a:t>2.  Recognize Ris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 Use New Thin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7030a0"/>
                </a:solidFill>
                <a:latin typeface="Tahoma"/>
                <a:ea typeface="Tahoma"/>
              </a:rPr>
              <a:t>Step 2 – Recognize Risk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d my thoughts, feelings, attitudes and beliefs lead me to do what I did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thoughts, feelings, attitudes and beliefs were most important in leading me to do what I did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id these thoughts, feelings, attitudes and beliefs lead me to do what I did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6AB6F-F572-42A0-82FF-6362039F073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0" descr="C:\Documents and Settings\BOP37837\Local Settings\Temporary Internet Files\Content.IE5\1EQKDATD\MC900197844[1].wmf"/>
          <p:cNvPicPr/>
          <p:nvPr/>
        </p:nvPicPr>
        <p:blipFill>
          <a:blip r:embed="rId1"/>
          <a:srcRect l="14084" t="0" r="0" b="0"/>
          <a:stretch/>
        </p:blipFill>
        <p:spPr>
          <a:xfrm>
            <a:off x="4952880" y="5030640"/>
            <a:ext cx="3927600" cy="17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7030a0"/>
                </a:solidFill>
                <a:latin typeface="Tahoma"/>
                <a:ea typeface="Tahoma"/>
              </a:rPr>
              <a:t>Step 2 – Recognize Risk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d my thoughts, feelings, attitudes and beliefs lead me to do what I did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thoughts, feelings, attitudes and beliefs were most important in leading me to do what I did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id these thoughts, feelings, attitudes and beliefs lead me to do what I did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13A94-62F2-4425-A2C8-4DC790AD336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0" descr="C:\Documents and Settings\BOP37837\Local Settings\Temporary Internet Files\Content.IE5\1EQKDATD\MC900197844[1].wmf"/>
          <p:cNvPicPr/>
          <p:nvPr/>
        </p:nvPicPr>
        <p:blipFill>
          <a:blip r:embed="rId1"/>
          <a:srcRect l="14084" t="0" r="0" b="0"/>
          <a:stretch/>
        </p:blipFill>
        <p:spPr>
          <a:xfrm>
            <a:off x="4952880" y="5030640"/>
            <a:ext cx="3927600" cy="17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366DF-644C-4B19-9CE8-CFBAEC0584C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Tahoma"/>
                <a:ea typeface="Tahoma"/>
              </a:rPr>
              <a:t>Homework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5" name="Picture 6" descr="C:\Documents and Settings\BOP37837\Local Settings\Temporary Internet Files\Content.IE5\92NO5SJ1\MP900439393[1].jpg"/>
          <p:cNvPicPr/>
          <p:nvPr/>
        </p:nvPicPr>
        <p:blipFill>
          <a:blip r:embed="rId1"/>
          <a:stretch/>
        </p:blipFill>
        <p:spPr>
          <a:xfrm>
            <a:off x="6149880" y="4616280"/>
            <a:ext cx="2765520" cy="221004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3"/>
          <p:cNvSpPr/>
          <p:nvPr/>
        </p:nvSpPr>
        <p:spPr>
          <a:xfrm>
            <a:off x="644400" y="1663560"/>
            <a:ext cx="8266320" cy="40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nother thinking report about a recent or past time when you broke a rule or hurt some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rcle one key thought, one feeling, and one attitude/belief that led you to do that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7T15:14:12Z</dcterms:created>
  <dc:creator>bop1998</dc:creator>
  <dc:description/>
  <dc:language>en-US</dc:language>
  <cp:lastModifiedBy>BOP37849</cp:lastModifiedBy>
  <dcterms:modified xsi:type="dcterms:W3CDTF">2011-11-25T16:23:08Z</dcterms:modified>
  <cp:revision>73</cp:revision>
  <dc:subject/>
  <dc:title>Paying Attention To Our Thinking</dc:title>
</cp:coreProperties>
</file>