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EC9-BA31-4801-9602-42DDB153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583-F016-4B43-9542-DEDC3B1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340-D50F-4FF6-BD05-85AA9D99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619-A508-4070-87A3-DDB5F802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A56-D484-4B68-A1C3-EE30E355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FBF2-BDAF-48D4-8C90-6E553C65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C456-244A-4156-9FEB-E5617ECD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A875-90D8-4613-B94D-CDE3CF1E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E06-4F54-4757-97FB-8EE4EC2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A091-1A91-4044-8C15-7752256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5595-6C52-4674-9597-13BEAEF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902-B5B0-450D-9FC7-7E0E1BE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D76-6935-43D1-AB63-AF752CB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A917-AFB1-4138-9AB6-3B0C4B9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4D14-EFB2-4788-8404-9604A50D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1073-28ED-45A3-B1F6-E41D09E4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24A-320F-44BA-8E04-75FD80E9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C3-FD4B-4305-A597-D3F591DE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B0C-5B16-45E5-B4CF-0749236D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000-7E8A-4D0E-84A5-636261D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65A-8F96-4CCE-82BC-90D57FD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74C-6FBD-4BA3-B45A-10DFDA1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459-506D-4E97-BDC8-CE1CC78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D88-939B-44BC-A7CA-24E6ED7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2ED2-3205-4A3B-A1BF-BCE1370B4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60F-20AE-43E4-9A8C-FF24D4165B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80880" y="38098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Ask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3" descr=""/>
          <p:cNvPicPr/>
          <p:nvPr/>
        </p:nvPicPr>
        <p:blipFill>
          <a:blip r:embed="rId4"/>
          <a:stretch/>
        </p:blipFill>
        <p:spPr>
          <a:xfrm>
            <a:off x="66600" y="1951200"/>
            <a:ext cx="5711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554-3C79-45F2-90C9-64FB8DB1E3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Swis721 BlkEx BT"/>
              </a:rPr>
              <a:t>Active Listening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ook at the person who is t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ink about what is being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ait your turn to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ay what you want to 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 flipH="1">
            <a:off x="5029200" y="4572000"/>
            <a:ext cx="182232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676520" y="4010040"/>
            <a:ext cx="19047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AC88-E25E-4ECB-8915-45BCA1E8EE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 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you practice the skill?  Where?  With wh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nother situation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sk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112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038480"/>
            <a:ext cx="31244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64E-4594-4BFF-BE39-C91D2C5539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Swis721 BlkEx BT"/>
              </a:rPr>
              <a:t>Asking Questions - Defini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get more information about something that is important to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for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about an assig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Diagram 8" descr=""/>
          <p:cNvPicPr/>
          <p:nvPr/>
        </p:nvPicPr>
        <p:blipFill>
          <a:blip r:embed="rId1"/>
          <a:stretch/>
        </p:blipFill>
        <p:spPr>
          <a:xfrm>
            <a:off x="901800" y="4181400"/>
            <a:ext cx="36702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Stored Data 4"/>
          <p:cNvSpPr/>
          <p:nvPr/>
        </p:nvSpPr>
        <p:spPr>
          <a:xfrm>
            <a:off x="3581280" y="2438280"/>
            <a:ext cx="5562720" cy="3810240"/>
          </a:xfrm>
          <a:prstGeom prst="flowChartOnlineStorag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4B1-AB33-4671-9FE6-9FE05C8D2F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Asking Questions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239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ecide what you would like to know mo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cide whom to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ink about different ways to ask your question.  Pick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Pick the right time and place to ask you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Ask your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3:56:52Z</dcterms:modified>
  <cp:revision>48</cp:revision>
  <dc:subject/>
  <dc:title>Paying Attention To Our Thinking</dc:title>
</cp:coreProperties>
</file>