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370-A1AC-4B8A-9B88-5E1D4FAC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FE1-437E-4178-8EB4-3D35BD8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E55-9D89-438E-9AAA-44B517E3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524-9399-4274-894F-6A092CA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B7B6-03F0-41AA-B0FF-2E9624B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A989-9269-4F18-93E7-3251426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22E-45CC-4B44-9415-44617E2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46C4-D17D-4AB5-8669-BC2E427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DDD7-EF92-431C-8A40-1D08AC7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BB6-7719-40A1-A0BA-91AECDF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70BD-F12F-4139-A265-E3E739D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F15-7F44-4F53-A493-4988F7B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CA2D-3652-4964-BB60-D75EA17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0C97-DE85-4097-95E1-2270DD9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4D79-5E97-4BC0-8D4E-DD6EFBE1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742F-1077-441B-8C33-7805940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E79-BB95-49F1-B7C5-F4581231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F10-D2D0-4E87-8A8F-0C10DBA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87F-3021-4201-B258-E5AB2BEC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C97-FA0A-4FD8-A5AF-986B335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0E9-2AE7-4D74-BE8F-DB17B29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E04-943A-4466-BE48-58360246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D56-A280-4D6B-9269-EE009D6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A71-EC28-4503-A5FC-BED2C0ED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012-9470-420B-A9C8-D06B7A586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01A-2515-4804-90E9-3529DC28CE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219240" y="1646280"/>
            <a:ext cx="4949640" cy="2023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657360" y="3276720"/>
            <a:ext cx="78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4 – Think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Choices and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traight Connector 6"/>
          <p:cNvSpPr/>
          <p:nvPr/>
        </p:nvSpPr>
        <p:spPr>
          <a:xfrm>
            <a:off x="5867280" y="5562720"/>
            <a:ext cx="1981440" cy="685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Skill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1 – Stop and Thin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2 – State the Proble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kill 3 – Set a Goal and Gather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2D5-394D-470D-A1B1-E36EA735FE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rcRect l="0" t="0" r="58981" b="0"/>
          <a:stretch/>
        </p:blipFill>
        <p:spPr>
          <a:xfrm flipH="1">
            <a:off x="6164280" y="3124080"/>
            <a:ext cx="14558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4: Choices and Consequenc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s important thin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ch as brainstorming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agining the consequ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your a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1F9-685E-49CC-B457-E886BD4626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 flipH="1">
            <a:off x="5486400" y="4267080"/>
            <a:ext cx="19051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Swis721 BlkEx BT"/>
              </a:rPr>
              <a:t>Skill 4: Choices and Consequenc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90476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feelings are coo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800240" y="19047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 skills are hea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1A1-37B3-4B23-B056-53D44098C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weather25"/>
          <p:cNvPicPr/>
          <p:nvPr/>
        </p:nvPicPr>
        <p:blipFill>
          <a:blip r:embed="rId1"/>
          <a:stretch/>
        </p:blipFill>
        <p:spPr>
          <a:xfrm>
            <a:off x="6172200" y="2809800"/>
            <a:ext cx="1155600" cy="362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eather24"/>
          <p:cNvPicPr/>
          <p:nvPr/>
        </p:nvPicPr>
        <p:blipFill>
          <a:blip r:embed="rId2"/>
          <a:stretch/>
        </p:blipFill>
        <p:spPr>
          <a:xfrm>
            <a:off x="2209680" y="2809800"/>
            <a:ext cx="1131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4000"/>
            </a:br>
            <a:r>
              <a:rPr b="0" lang="en-US" sz="4000" spc="-1" strike="noStrike">
                <a:solidFill>
                  <a:srgbClr val="313100"/>
                </a:solidFill>
                <a:latin typeface="Swis721 BlkEx BT"/>
              </a:rPr>
              <a:t>Skill 4: Choices and Consequenc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057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Brainstorm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Think about the 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Pick a choic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to y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3EC-CDB2-4DAF-85E2-C5CBB5099B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 flipH="1">
            <a:off x="5943600" y="3581280"/>
            <a:ext cx="2379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3C4-2E22-4E26-9AEF-72FD0E784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457200" y="4876920"/>
            <a:ext cx="336708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99072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 skill 4 with the problem you worked on in lesson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you list at least 8 different things you can 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someone you trust to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your choic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43:09Z</dcterms:modified>
  <cp:revision>46</cp:revision>
  <dc:subject/>
  <dc:title>Paying Attention To Our Thinking</dc:title>
</cp:coreProperties>
</file>