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51E-4B06-4D27-9A16-D0386288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23B-64EB-4CF0-8B97-C32594B6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DDF-AD56-4155-94EB-580F80EF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5CA-A89D-487B-9073-EDF8C8B0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5739-5175-464A-948E-C63B7F16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28F-8F2D-4B27-BC5E-67910D90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76F5-017A-4567-BDCC-093C41EF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5D38-84A3-4A53-9B1F-7602F1E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459D-F70D-46C7-B235-7A15000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73A-54A4-4823-A0D3-D5286CA3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D80-6990-4447-867E-1399452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4D3-FB12-44BE-96BA-C3796C6D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B1D-B1CD-434B-9C39-E285D64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A21A-E20E-470F-B78F-561B6DF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EBF4-5C17-4AED-8934-139204AA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FAAC-5333-419B-A6DC-730AA92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26F-5592-4DB7-AE72-309D8FAF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D1A-B3EC-47D9-9DE3-FF6064ED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3BD-A419-4D37-89DF-7ECCFD8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4A3-1E57-4FB7-8E98-8004CE6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D2C-38BB-4E65-B7CB-BFC2698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3FC-7632-435F-BBE3-367C5E0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E12-DBF8-4D31-B6E4-925ED78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FE5-5E30-4992-BE61-DA8C0CDF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B37D-285D-4EE7-9819-820DCC3662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48E7-9D43-48EC-8A1E-8B03DF3C97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Lighter swirl 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0"/>
            <a:ext cx="8763120" cy="182880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584280" y="3657600"/>
            <a:ext cx="8381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Swis721 BlkEx BT"/>
              </a:rPr>
              <a:t>Cognitive Self-Chang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Swis721 BlkEx BT"/>
              </a:rPr>
              <a:t> </a:t>
            </a:r>
            <a:r>
              <a:rPr b="0" lang="en-US" sz="4800" spc="-1" strike="noStrike">
                <a:solidFill>
                  <a:srgbClr val="002060"/>
                </a:solidFill>
                <a:latin typeface="Swis721 BlkEx BT"/>
              </a:rPr>
              <a:t>Thinking Check-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398952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3" descr=""/>
          <p:cNvPicPr/>
          <p:nvPr/>
        </p:nvPicPr>
        <p:blipFill>
          <a:blip r:embed="rId4"/>
          <a:stretch/>
        </p:blipFill>
        <p:spPr>
          <a:xfrm>
            <a:off x="122400" y="2309760"/>
            <a:ext cx="57052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CD5A-9586-42B0-B2A9-526953CB69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600a6"/>
                </a:solidFill>
                <a:latin typeface="Tahoma"/>
                <a:ea typeface="Tahoma"/>
              </a:rPr>
              <a:t>Cognitive  Self  Change  Ste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Pay Attention to Our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Recognize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Use New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BOP37837\Local Settings\Temporary Internet Files\Content.IE5\92NO5SJ1\MP900439332[1].jpg"/>
          <p:cNvPicPr/>
          <p:nvPr/>
        </p:nvPicPr>
        <p:blipFill>
          <a:blip r:embed="rId1"/>
          <a:srcRect l="0" t="0" r="20000" b="0"/>
          <a:stretch/>
        </p:blipFill>
        <p:spPr>
          <a:xfrm>
            <a:off x="4267080" y="3886200"/>
            <a:ext cx="3503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A9C-86DB-4C21-81CE-0783B43B9D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773c"/>
                </a:solidFill>
                <a:latin typeface="Tahoma"/>
                <a:ea typeface="Tahoma"/>
              </a:rPr>
              <a:t>Thinking Check-I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1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ef report of the situ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2 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ef report of the thoughts, feelings, attitudes and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Identify the risk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ose thou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ing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Find new thi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0" t="0" r="59448" b="0"/>
          <a:stretch/>
        </p:blipFill>
        <p:spPr>
          <a:xfrm flipH="1">
            <a:off x="6477120" y="1447920"/>
            <a:ext cx="22860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C:\Documents and Settings\BOP37837\Local Settings\Temporary Internet Files\Content.IE5\92NO5SJ1\MP900439393[1].jpg"/>
          <p:cNvPicPr/>
          <p:nvPr/>
        </p:nvPicPr>
        <p:blipFill>
          <a:blip r:embed="rId1"/>
          <a:srcRect l="27430" t="0" r="0" b="0"/>
          <a:stretch/>
        </p:blipFill>
        <p:spPr>
          <a:xfrm>
            <a:off x="6781680" y="320040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8AAE-2489-4763-AB02-C58F718659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ahoma"/>
              </a:rPr>
              <a:t>Homework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times where you have thoughts and feelings that have some risk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ts val="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 - risk can be very high or very low - look for risk in your thinking at every degree of r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ts val="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bility to notice even very slight degrees of risk is one of the most important skill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hinking report and be prepared to give a thinking check-in next ti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7"/>
          <p:cNvSpPr/>
          <p:nvPr/>
        </p:nvSpPr>
        <p:spPr>
          <a:xfrm>
            <a:off x="3048120" y="990720"/>
            <a:ext cx="914400" cy="91440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Program Files\Microsoft Office\MEDIA\OFFICE12\Lines\BD10219_.gif"/>
          <p:cNvPicPr/>
          <p:nvPr/>
        </p:nvPicPr>
        <p:blipFill>
          <a:blip r:embed="rId2"/>
          <a:stretch/>
        </p:blipFill>
        <p:spPr>
          <a:xfrm>
            <a:off x="685800" y="914400"/>
            <a:ext cx="593424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5:14:12Z</dcterms:created>
  <dc:creator>bop1998</dc:creator>
  <dc:description/>
  <dc:language>en-US</dc:language>
  <cp:lastModifiedBy>BOP37849</cp:lastModifiedBy>
  <dcterms:modified xsi:type="dcterms:W3CDTF">2011-12-12T21:51:51Z</dcterms:modified>
  <cp:revision>74</cp:revision>
  <dc:subject/>
  <dc:title>Paying Attention To Our Thinking</dc:title>
</cp:coreProperties>
</file>