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2A24-1FC8-4C26-900C-F75FA786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EE26-DC23-400F-94AB-65B495291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F23-4CB2-4D77-9063-655E873E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490-4B41-4D93-AA81-192458E7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F82-3127-48C9-B51B-7B6F1DEA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6A3-075D-42FD-830A-ADA783F9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04F3-F91D-4FA3-98D0-8E129D4F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D271-ECEE-405A-B79B-9690E99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6E8C-D96F-452C-9236-73434D0D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B8B2-DDB0-4784-A5FD-D95DEB3E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EF9D-E930-4749-9DF5-7A6F2A08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5BB8-5F12-4856-BB41-347667F5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E93D-1C6F-4D55-B5F7-E54F650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AB9-F816-43AA-BB27-069EBCC2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B95F-4B35-4CD9-BB30-2FD19BFD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D7C1-26FA-44E2-BB6E-3242A4E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F91C-B9FD-45FE-A86F-C1631D8D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A110-91D2-438B-ACC4-1DAA7D38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3640-4F82-4141-B4A5-2564F04B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54A-C660-4BA5-8A5A-B80D825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410-8F05-4B2D-92E0-EB0CE75F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D7B-7645-4D27-A63D-84FB206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BB0-4B2D-435D-89C6-4265E1B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281-CDA7-4D6E-B514-B4BA8E1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AD6-1A4F-4DDA-8D73-CB26B71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EA8-8539-45E1-8081-12767D4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-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F3E3-C704-4738-B336-B18EF7CB64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-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90B9-CC3E-470A-80C6-2EAE960FB2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2"/>
          <a:stretch/>
        </p:blipFill>
        <p:spPr>
          <a:xfrm>
            <a:off x="523800" y="2103480"/>
            <a:ext cx="4950000" cy="202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570600" y="3657600"/>
            <a:ext cx="618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kill 1 – Stop and Th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B2E1-A358-4CC1-AC19-EFCD6847DA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3100"/>
                </a:solidFill>
                <a:latin typeface="Swis721 BlkEx BT"/>
              </a:rPr>
              <a:t>Step 1: Stop – Pay Attention to Your Warning Signs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and Think Handout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Identify a situation that you are having or have recently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Discuss with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Write down your warn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 flipH="1">
            <a:off x="0" y="4164120"/>
            <a:ext cx="28195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54B4-3677-4362-9867-E2D9AAB66E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k!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e your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523880" y="2590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qu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523880" y="32083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som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523880" y="3809880"/>
            <a:ext cx="49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MCj03236140000[1]"/>
          <p:cNvPicPr/>
          <p:nvPr/>
        </p:nvPicPr>
        <p:blipFill>
          <a:blip r:embed="rId1"/>
          <a:stretch/>
        </p:blipFill>
        <p:spPr>
          <a:xfrm>
            <a:off x="5791320" y="3352680"/>
            <a:ext cx="2622600" cy="2625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1: Stop and Think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13100"/>
                </a:solidFill>
                <a:latin typeface="Swis721 BlkEx BT"/>
              </a:rPr>
              <a:t>Thinking Re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1219320"/>
          <a:ext cx="845820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5715000"/>
              </a:tblGrid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not make the sports te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t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  I feel like a f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  I am a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  I am better than most of the people who made the t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  Everyone is going to make fun of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   The coach is stup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   I hat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rrassed, angry, frustrated, def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tudes/Belief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a right to be on the team, Making or missing the team says a lot about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13100"/>
                </a:solidFill>
                <a:latin typeface="Swis721 BlkEx BT"/>
              </a:rPr>
              <a:t>New Think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1760" y="17524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handl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time to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and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23920" y="17524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is crazy, but I am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ill decide what happens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count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happen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C631-ADB2-4C50-93A9-CB5206EDB4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blem Solving –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kill 1: Stop and Thin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14040" y="1752480"/>
            <a:ext cx="3809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top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y attention to your warning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257440" y="1752480"/>
            <a:ext cx="34290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5960" indent="-29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nk!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duce your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qu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m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MCj03236140000[1]"/>
          <p:cNvPicPr/>
          <p:nvPr/>
        </p:nvPicPr>
        <p:blipFill>
          <a:blip r:embed="rId1"/>
          <a:stretch/>
        </p:blipFill>
        <p:spPr>
          <a:xfrm>
            <a:off x="6858000" y="152280"/>
            <a:ext cx="10666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01C-030B-4805-9FBC-2C4DC35728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as the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physical reactions you h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ere your risk though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ere your risk feeling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us how well you recognized your warning sig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Pentagon 10"/>
          <p:cNvGrpSpPr/>
          <p:nvPr/>
        </p:nvGrpSpPr>
        <p:grpSpPr>
          <a:xfrm>
            <a:off x="4059360" y="5383080"/>
            <a:ext cx="3389040" cy="895320"/>
            <a:chOff x="4059360" y="5383080"/>
            <a:chExt cx="3389040" cy="895320"/>
          </a:xfrm>
        </p:grpSpPr>
        <p:pic>
          <p:nvPicPr>
            <p:cNvPr id="114" name="Pentagon 10" descr=""/>
            <p:cNvPicPr/>
            <p:nvPr/>
          </p:nvPicPr>
          <p:blipFill>
            <a:blip r:embed="rId1"/>
            <a:stretch/>
          </p:blipFill>
          <p:spPr>
            <a:xfrm>
              <a:off x="4059360" y="5383080"/>
              <a:ext cx="3389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114800" y="5410080"/>
              <a:ext cx="307980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172200" y="4952880"/>
            <a:ext cx="2041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Swis721 BlkEx BT"/>
              </a:rPr>
              <a:t>Conflict Cycl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6248520" y="2965320"/>
            <a:ext cx="1752480" cy="1600200"/>
          </a:xfrm>
          <a:prstGeom prst="ellipse">
            <a:avLst/>
          </a:prstGeom>
          <a:solidFill>
            <a:srgbClr val="cccc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ning 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1143000" y="2987640"/>
            <a:ext cx="1752480" cy="1600200"/>
          </a:xfrm>
          <a:prstGeom prst="ellipse">
            <a:avLst/>
          </a:prstGeom>
          <a:solidFill>
            <a:srgbClr val="cccc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3710160" y="4229280"/>
            <a:ext cx="1752480" cy="1676160"/>
          </a:xfrm>
          <a:prstGeom prst="ellipse">
            <a:avLst/>
          </a:prstGeom>
          <a:solidFill>
            <a:srgbClr val="cc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3657600" y="1676520"/>
            <a:ext cx="1752480" cy="1600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4"/>
          <p:cNvSpPr/>
          <p:nvPr/>
        </p:nvSpPr>
        <p:spPr>
          <a:xfrm rot="12596400">
            <a:off x="5481360" y="280620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5"/>
          <p:cNvSpPr/>
          <p:nvPr/>
        </p:nvSpPr>
        <p:spPr>
          <a:xfrm rot="9208200">
            <a:off x="2739600" y="285516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6"/>
          <p:cNvSpPr/>
          <p:nvPr/>
        </p:nvSpPr>
        <p:spPr>
          <a:xfrm rot="19432200">
            <a:off x="5562360" y="459108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7"/>
          <p:cNvSpPr/>
          <p:nvPr/>
        </p:nvSpPr>
        <p:spPr>
          <a:xfrm rot="1717800">
            <a:off x="2714400" y="454788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traight Connector 6"/>
          <p:cNvSpPr/>
          <p:nvPr/>
        </p:nvSpPr>
        <p:spPr>
          <a:xfrm>
            <a:off x="6705720" y="5105520"/>
            <a:ext cx="1981080" cy="685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469A-A836-4723-8590-4823275A09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Problem Solving Skill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1 – Stop and Th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2 – State 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3 – Set a Goal and Gat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4 – Think of Choices a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q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5 – Make a Pl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6 – Do and Eval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rcRect l="0" t="0" r="58981" b="0"/>
          <a:stretch/>
        </p:blipFill>
        <p:spPr>
          <a:xfrm flipH="1">
            <a:off x="7010280" y="2666880"/>
            <a:ext cx="14558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77D7-20F3-41FF-B8CD-0B4BC63CD8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773c"/>
                </a:solidFill>
                <a:latin typeface="Swis721 BlkEx BT"/>
              </a:rPr>
              <a:t>Types of Proble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face” problems 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tuations where you have to act immediat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to think” problem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-  Situations where you do not have to take immediat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MCj00787110000[1]"/>
          <p:cNvPicPr/>
          <p:nvPr/>
        </p:nvPicPr>
        <p:blipFill>
          <a:blip r:embed="rId1"/>
          <a:stretch/>
        </p:blipFill>
        <p:spPr>
          <a:xfrm>
            <a:off x="6400800" y="4035600"/>
            <a:ext cx="1600200" cy="2517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16002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CEA2-F091-4FB1-AC56-FA55C9E5FF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0c0"/>
                </a:solidFill>
                <a:latin typeface="Swis721 BlkEx BT"/>
              </a:rPr>
              <a:t>Risk Feelings and Thinking Skills:</a:t>
            </a:r>
            <a:br>
              <a:rPr sz="3400"/>
            </a:br>
            <a:r>
              <a:rPr b="0" lang="en-US" sz="3400" spc="-1" strike="noStrike">
                <a:solidFill>
                  <a:srgbClr val="0070c0"/>
                </a:solidFill>
                <a:latin typeface="Swis721 BlkEx BT"/>
              </a:rPr>
              <a:t>Their Temperatur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10" descr="weather25"/>
          <p:cNvPicPr/>
          <p:nvPr/>
        </p:nvPicPr>
        <p:blipFill>
          <a:blip r:embed="rId1"/>
          <a:stretch/>
        </p:blipFill>
        <p:spPr>
          <a:xfrm>
            <a:off x="1828800" y="1843200"/>
            <a:ext cx="1189080" cy="3733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weather24"/>
          <p:cNvPicPr/>
          <p:nvPr/>
        </p:nvPicPr>
        <p:blipFill>
          <a:blip r:embed="rId2"/>
          <a:stretch/>
        </p:blipFill>
        <p:spPr>
          <a:xfrm>
            <a:off x="5715000" y="1843200"/>
            <a:ext cx="1189080" cy="3733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4"/>
          <p:cNvSpPr/>
          <p:nvPr/>
        </p:nvSpPr>
        <p:spPr>
          <a:xfrm>
            <a:off x="1219320" y="5567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Feel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181480" y="5567400"/>
            <a:ext cx="28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ing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blem Solving –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kill 1: Stop and Thin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040" y="1752480"/>
            <a:ext cx="3809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top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y attention to your warning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57440" y="1752480"/>
            <a:ext cx="34290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5960" indent="-29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nk!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duce your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qu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m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MCj03236140000[1]"/>
          <p:cNvPicPr/>
          <p:nvPr/>
        </p:nvPicPr>
        <p:blipFill>
          <a:blip r:embed="rId1"/>
          <a:stretch/>
        </p:blipFill>
        <p:spPr>
          <a:xfrm>
            <a:off x="6858000" y="152280"/>
            <a:ext cx="10666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BE5-AFF9-4B72-926D-441C1E5D91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Problem Solving – </a:t>
            </a:r>
            <a:br>
              <a:rPr sz="3600"/>
            </a:br>
            <a:r>
              <a:rPr b="0" lang="en-US" sz="3600" spc="-1" strike="noStrike">
                <a:solidFill>
                  <a:srgbClr val="313100"/>
                </a:solidFill>
                <a:latin typeface="Swis721 BlkEx BT"/>
              </a:rPr>
              <a:t>Skill 1: Stop and Think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op!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 attention to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rning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327672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47920" y="396252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447920" y="464832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MCj03236140000[1]"/>
          <p:cNvPicPr/>
          <p:nvPr/>
        </p:nvPicPr>
        <p:blipFill>
          <a:blip r:embed="rId1"/>
          <a:stretch/>
        </p:blipFill>
        <p:spPr>
          <a:xfrm>
            <a:off x="5791320" y="3505320"/>
            <a:ext cx="26226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DA59-461F-45C0-94E1-914B399394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13100"/>
                </a:solidFill>
                <a:latin typeface="Swis721 BlkEx BT"/>
              </a:rPr>
              <a:t>Problem  Situ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to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MCj00787110000[1]"/>
          <p:cNvPicPr/>
          <p:nvPr/>
        </p:nvPicPr>
        <p:blipFill>
          <a:blip r:embed="rId1"/>
          <a:stretch/>
        </p:blipFill>
        <p:spPr>
          <a:xfrm flipH="1">
            <a:off x="304920" y="4038480"/>
            <a:ext cx="102384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 flipH="1">
            <a:off x="7086240" y="4724280"/>
            <a:ext cx="1660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1"/>
          <p:cNvSpPr/>
          <p:nvPr/>
        </p:nvSpPr>
        <p:spPr>
          <a:xfrm>
            <a:off x="1338120" y="1544400"/>
            <a:ext cx="3048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finds out he didn’t make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read the list of people who made the team and my name wasn’t there.  I felt my head start to throb, my mouth got dry and my muscles got tigh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4800600" y="16365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your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4876920" y="2133720"/>
            <a:ext cx="358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ther finds his daughter us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walked into the room and saw her using. I felt like waves of heat were flaming around me and my insides started shak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clenched 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w  and my f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12:35Z</dcterms:modified>
  <cp:revision>64</cp:revision>
  <dc:subject/>
  <dc:title>Paying Attention To Our Thinking</dc:title>
</cp:coreProperties>
</file>