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D33-5D31-4382-B377-285041EE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1E8-1090-45E9-ADEA-6260E61D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069-1B8F-4658-AAEF-DBE4EE38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2F0-B86B-40D2-9A63-403669BC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6F2F-CE58-4893-A4CD-C4A9C0BF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9335-77E2-4E60-8430-4A54699E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5FF7-9871-4F3F-B3F1-6076A3EC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0C50-DAD6-48B5-847D-4B0D7F95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67EF-1AB1-4452-9A91-89295480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43E3-612C-4426-A8F1-E01CD5F7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70B4-E1F2-4F7A-A74C-EF34ADF7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0F3-9294-4EF8-8583-FBC44671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D8F3-6FF5-4CD3-85B5-0642FBBE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09E8-94A1-4FDC-B973-1737079F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7A67-82EC-4469-B2C2-49E2AA26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C4C8-7479-48FA-AC45-F9A312C3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1872-A3F8-4271-958F-197BCFBC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1AF-2A02-4930-8CBB-1E199459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D18-2633-4E2B-9879-0AB4B6A4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0F8-975F-4678-8A24-56E9B91E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FC2-947D-4E60-8425-4E3DCB3B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C58-9052-43DF-A877-0B329835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764-C9DB-4987-901D-5F42AB94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6B1-3596-4AE4-96E5-F3BC77E8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1864-F821-4532-85B7-D6170C6207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39BB-2B1D-4FCB-A5F1-B6DCBCCB3D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2"/>
          <a:stretch/>
        </p:blipFill>
        <p:spPr>
          <a:xfrm>
            <a:off x="523800" y="1798560"/>
            <a:ext cx="4950000" cy="2024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990720" y="373392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Problem Solving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kill 5 – Make a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traight Connector 6"/>
          <p:cNvSpPr/>
          <p:nvPr/>
        </p:nvSpPr>
        <p:spPr>
          <a:xfrm>
            <a:off x="5867280" y="5715000"/>
            <a:ext cx="2514600" cy="30492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8392-0BA3-4A2F-937B-2A3D60CCE0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wis721 BlkEx BT"/>
              </a:rPr>
              <a:t>Problem Solving Skill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467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kill 1 – Stop and Think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kill 2 – State the Problem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kill 3 – Set a Goal and Gat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formation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kill 4 – Think of Choic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nd Consequen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rcRect l="0" t="0" r="58981" b="0"/>
          <a:stretch/>
        </p:blipFill>
        <p:spPr>
          <a:xfrm flipH="1">
            <a:off x="6933960" y="3048120"/>
            <a:ext cx="145548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64DA-2D81-4F42-86FD-70447BBC4D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Swis721 BlkEx BT"/>
              </a:rPr>
              <a:t>Problem Solving –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Swis721 BlkEx BT"/>
              </a:rPr>
              <a:t>Skill 5: Make a </a:t>
            </a:r>
            <a:r>
              <a:rPr b="1" lang="en-US" sz="4000" spc="-1" strike="noStrike">
                <a:solidFill>
                  <a:srgbClr val="0070c0"/>
                </a:solidFill>
                <a:latin typeface="Swis721 BlkEx BT"/>
              </a:rPr>
              <a:t>Plan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 feelings are unde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 skills heat up even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weather25"/>
          <p:cNvPicPr/>
          <p:nvPr/>
        </p:nvPicPr>
        <p:blipFill>
          <a:blip r:embed="rId1"/>
          <a:stretch/>
        </p:blipFill>
        <p:spPr>
          <a:xfrm>
            <a:off x="6172200" y="2747880"/>
            <a:ext cx="1155600" cy="362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weather24"/>
          <p:cNvPicPr/>
          <p:nvPr/>
        </p:nvPicPr>
        <p:blipFill>
          <a:blip r:embed="rId2"/>
          <a:stretch/>
        </p:blipFill>
        <p:spPr>
          <a:xfrm>
            <a:off x="2209680" y="2847960"/>
            <a:ext cx="11318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7DA9-B043-4832-B06B-B91540C2D7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3100"/>
                </a:solidFill>
                <a:latin typeface="Swis721 BlkEx BT"/>
              </a:rPr>
              <a:t>Problem Solving – </a:t>
            </a:r>
            <a:br>
              <a:rPr sz="4000"/>
            </a:br>
            <a:r>
              <a:rPr b="0" lang="en-US" sz="4000" spc="-1" strike="noStrike">
                <a:solidFill>
                  <a:srgbClr val="313100"/>
                </a:solidFill>
                <a:latin typeface="Swis721 BlkEx BT"/>
              </a:rPr>
              <a:t>Skill 5: Make a Plan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 Identify who, where and 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 Choose key social skills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elp you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 Identify what you will do/s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 Identify how you will do/say i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5:  Decide on a thought to get you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8148-2BED-4166-8274-E31DD75C79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  <a:ea typeface="Tahoma"/>
              </a:rPr>
              <a:t>Homework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Picture 6" descr="C:\Documents and Settings\BOP37837\Local Settings\Temporary Internet Files\Content.IE5\92NO5SJ1\MP900439393[1].jpg"/>
          <p:cNvPicPr/>
          <p:nvPr/>
        </p:nvPicPr>
        <p:blipFill>
          <a:blip r:embed="rId1"/>
          <a:stretch/>
        </p:blipFill>
        <p:spPr>
          <a:xfrm>
            <a:off x="4800600" y="4572000"/>
            <a:ext cx="3567240" cy="2286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609480" y="16765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lan for the problem situation you have been using for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hoice from skill 4, step 3 that you finalized today during homework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16:44:36Z</dcterms:modified>
  <cp:revision>46</cp:revision>
  <dc:subject/>
  <dc:title>Paying Attention To Our Thinking</dc:title>
</cp:coreProperties>
</file>