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E76-563A-405B-A958-12B6C04F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8B2-226E-4597-80A1-132547BD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D89-F543-46E3-B6F5-DD063F36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245-603B-4901-B689-EC6A03A6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46B3-92F5-4AAF-8200-5F47C30A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785B-9977-43FD-915F-2F7D27D7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FD17-2D59-47DC-8689-40859D3F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D13A-98E3-4941-A0EA-E36AFD47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BE09-C1C9-4E4D-9F94-600239D4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5416-01F4-4DEE-BBCC-88457222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37BC-17C1-4093-8713-9642FFA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422-A908-4D5F-9EC7-597BAB3E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A892-5292-47A5-B26D-830B199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216A-A131-4AC2-9D9E-0BA6BC31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378D-0DFC-4E41-94B1-18D86358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4039-0DC3-4B71-8F09-6FD28C00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EBED-1D04-4C69-8649-39A06DD9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856-0BE5-4DB9-AA34-C0B7156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106-CB3C-4A7C-9CF0-7CF41D51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EF9-910A-4660-8453-44CE4DF0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AD2-4AA6-47FB-9CA2-EF04C005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E24-77C8-41B9-BD05-342CC037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07C-7867-45AE-9B5A-5357460E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75C-517C-42EA-88A7-3C32625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25F-46C5-4D4A-AD6D-0A895E32D7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542-63E4-46AF-A26B-9571C98965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523800" y="1878120"/>
            <a:ext cx="6851880" cy="217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762120" y="380988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Social Ski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Understanding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Swis721 BlkEx BT"/>
              </a:rPr>
              <a:t>Feelings of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Homework Review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1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report of the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2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report of the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dentify the risk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ose thought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Find new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6CCB-25A9-44CF-9580-976BF155EE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Pentagon 10"/>
          <p:cNvGrpSpPr/>
          <p:nvPr/>
        </p:nvGrpSpPr>
        <p:grpSpPr>
          <a:xfrm>
            <a:off x="4668840" y="5078520"/>
            <a:ext cx="3921120" cy="1023840"/>
            <a:chOff x="4668840" y="5078520"/>
            <a:chExt cx="3921120" cy="1023840"/>
          </a:xfrm>
        </p:grpSpPr>
        <p:pic>
          <p:nvPicPr>
            <p:cNvPr id="107" name="Pentagon 10" descr=""/>
            <p:cNvPicPr/>
            <p:nvPr/>
          </p:nvPicPr>
          <p:blipFill>
            <a:blip r:embed="rId1"/>
            <a:stretch/>
          </p:blipFill>
          <p:spPr>
            <a:xfrm>
              <a:off x="4668840" y="5078520"/>
              <a:ext cx="39211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724280" y="5105520"/>
              <a:ext cx="3581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8" descr="C:\Documents and Settings\BOP37837\Local Settings\Temporary Internet Files\Content.IE5\6KDAHNUR\MC900239929[1].wmf"/>
          <p:cNvPicPr/>
          <p:nvPr/>
        </p:nvPicPr>
        <p:blipFill>
          <a:blip r:embed="rId2"/>
          <a:stretch/>
        </p:blipFill>
        <p:spPr>
          <a:xfrm>
            <a:off x="6248520" y="4876920"/>
            <a:ext cx="215244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512C-45B1-45BE-98BB-59AD7B89A0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  <a:ea typeface="Tahoma"/>
              </a:rPr>
              <a:t>Knowing Your Feelings - Defini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362320" cy="3479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we use to tune into what is going on inside of us that make us think                or act in a certain                      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2E45-FA8A-4F18-9AD7-055E388710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ahoma"/>
                <a:ea typeface="Tahoma"/>
              </a:rPr>
              <a:t>Knowing Your Feelings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Tune in to what is going on in your body that helps you know what you are fe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ts val="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Decide what happened to make you feel that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ts val="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Decide what you could call the fe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BEB-C7F1-4552-94BE-597E41A94E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  <a:ea typeface="Tahoma"/>
              </a:rPr>
              <a:t>Understanding the Feelings of Others - Defini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lity to observe another person and identify what they may be feeling by looking at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their 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listening t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ey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C:\Documents and Settings\BOP37837\Local Settings\Temporary Internet Files\Content.IE5\LT4FLO8V\MP900443187[1].jpg"/>
          <p:cNvPicPr/>
          <p:nvPr/>
        </p:nvPicPr>
        <p:blipFill>
          <a:blip r:embed="rId1"/>
          <a:srcRect l="42857" t="0" r="0" b="0"/>
          <a:stretch/>
        </p:blipFill>
        <p:spPr>
          <a:xfrm>
            <a:off x="1371600" y="3733920"/>
            <a:ext cx="2666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7485-BBE8-4086-AE00-C21EE06ECA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Understanding the 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Feelings of Other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atch the other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ts val="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Listen to what the person is s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ts val="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igure out what the person might be 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ts val="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Think about ways to show you understand what he/she is 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ts val="9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Decide on the best way and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01T17:18:49Z</dcterms:modified>
  <cp:revision>76</cp:revision>
  <dc:subject/>
  <dc:title>Paying Attention To Our Thinking</dc:title>
</cp:coreProperties>
</file>