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615-19A3-47A7-AE9D-C74AC755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C00-9759-428C-BBBA-05150B4D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08E-26A2-4F1F-A827-7AC96DE4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CEF-5CC0-4BE8-A70B-A77FD03F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139E-275E-4D33-972B-EFBE4997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D3A8-EAB7-4DC0-96D9-68F75DE9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82F2-372D-4B2C-A151-625135B2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7009-4DD5-4EBE-8CE2-E89FE4C4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D5EF-CBFB-42B7-B127-00F51088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A3C4-F16B-4ED9-A55B-D8997C06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6512-DD64-4EFB-9D04-8AEF5B4B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EAB-F522-4606-B681-BBAC8CC4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0717-A32B-4606-9A2B-4038B60C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452E-BEEE-4997-94B4-F8A21852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A5B9-6454-4F98-9512-1942290C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189F-9D28-4A9A-AE82-CA538314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8953-A9BC-4293-BB09-A4BDE828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6A1-8980-4A32-995B-4D108CA0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420-748E-468D-AB29-175F5864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A1C-EBC8-4847-94E3-B922BBC2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11C-1D16-4068-B4C3-0D37F1D0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91E-8E4C-4DC9-A1C2-F6D555B4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7E3-D509-49F0-8309-938582C2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1EE5-4744-4CED-94B3-CC4FAEAE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8B29-A5B9-43F3-9AFB-8FFFD84E63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D78C-6E08-42F8-A164-2104A2AC2B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838080" y="335268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ocial Ski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Knowing Your Feel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3" descr=""/>
          <p:cNvPicPr/>
          <p:nvPr/>
        </p:nvPicPr>
        <p:blipFill>
          <a:blip r:embed="rId4"/>
          <a:stretch/>
        </p:blipFill>
        <p:spPr>
          <a:xfrm>
            <a:off x="371520" y="1646280"/>
            <a:ext cx="571176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lowchart: Stored Data 4"/>
          <p:cNvSpPr/>
          <p:nvPr/>
        </p:nvSpPr>
        <p:spPr>
          <a:xfrm>
            <a:off x="3581280" y="2438280"/>
            <a:ext cx="5562720" cy="3810240"/>
          </a:xfrm>
          <a:prstGeom prst="flowChartOnlineStorag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393F-90CF-4277-BFBE-BF7737D08A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10061"/>
                </a:solidFill>
                <a:latin typeface="Tahoma"/>
                <a:ea typeface="Tahoma"/>
              </a:rPr>
              <a:t>Giving Feedback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75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cide if you want to provide objective information to someone about his/her behavior, thoughts, or feelings.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75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cide what kind of information you wish to provid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75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nk about different ways to give the information.  Pick one wa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75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ick the right time and place to give feedback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75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 the other person the information in an objective mann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A14B-B040-4A5B-BBFD-67FC1480BA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Homework Review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d you practice the skill?  Where?  With wh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do to follow each step of the skill?  Be speci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us another situation 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use the skil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Pentagon 10"/>
          <p:cNvGrpSpPr/>
          <p:nvPr/>
        </p:nvGrpSpPr>
        <p:grpSpPr>
          <a:xfrm>
            <a:off x="938160" y="5230800"/>
            <a:ext cx="7804080" cy="1127160"/>
            <a:chOff x="938160" y="5230800"/>
            <a:chExt cx="7804080" cy="1127160"/>
          </a:xfrm>
        </p:grpSpPr>
        <p:pic>
          <p:nvPicPr>
            <p:cNvPr id="111" name="Pentagon 10" descr=""/>
            <p:cNvPicPr/>
            <p:nvPr/>
          </p:nvPicPr>
          <p:blipFill>
            <a:blip r:embed="rId1"/>
            <a:stretch/>
          </p:blipFill>
          <p:spPr>
            <a:xfrm>
              <a:off x="938160" y="5230800"/>
              <a:ext cx="78040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990720" y="5257800"/>
              <a:ext cx="74419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5410080" y="4038480"/>
            <a:ext cx="31244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4BE9-FC5C-4CEA-A4E1-96C2BE8B0E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b7b00"/>
                </a:solidFill>
                <a:latin typeface="Tahoma"/>
                <a:ea typeface="Tahoma"/>
              </a:rPr>
              <a:t>Knowing Your Feelings - Definition</a:t>
            </a:r>
            <a:br>
              <a:rPr sz="38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Picture 7" descr="C:\Documents and Settings\BOP37837\Local Settings\Temporary Internet Files\Content.IE5\LT4FLO8V\MC900447091[1].jpg"/>
          <p:cNvPicPr/>
          <p:nvPr/>
        </p:nvPicPr>
        <p:blipFill>
          <a:blip r:embed="rId1"/>
          <a:srcRect l="44187" t="0" r="0" b="0"/>
          <a:stretch/>
        </p:blipFill>
        <p:spPr>
          <a:xfrm>
            <a:off x="838080" y="1406520"/>
            <a:ext cx="3048120" cy="54514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9520" y="190476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we use to tu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o what is going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ide of us that ma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 think or act i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rtain w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C:\Documents and Settings\BOP37837\Local Settings\Temporary Internet Files\Content.IE5\LT4FLO8V\MC900447091[1].jpg"/>
          <p:cNvPicPr/>
          <p:nvPr/>
        </p:nvPicPr>
        <p:blipFill>
          <a:blip r:embed="rId1"/>
          <a:srcRect l="39999" t="0" r="0" b="49384"/>
          <a:stretch/>
        </p:blipFill>
        <p:spPr>
          <a:xfrm>
            <a:off x="4267080" y="4896000"/>
            <a:ext cx="4267440" cy="190476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E632-E9A5-4708-8F17-FD633ADA40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7b00"/>
                </a:solidFill>
                <a:latin typeface="Tahoma"/>
                <a:ea typeface="Tahoma"/>
              </a:rPr>
              <a:t>Knowing Your Feelings 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Tune in to what is going on in your body that helps you know what you are fee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Decide what happened to make you feel that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Decide what you could call the fee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4T14:38:22Z</dcterms:modified>
  <cp:revision>60</cp:revision>
  <dc:subject/>
  <dc:title>Paying Attention To Our Thinking</dc:title>
</cp:coreProperties>
</file>