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057-C57C-4686-B2DC-F73261EA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B1C-A228-4247-B9DA-8E431A0A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263-B9D2-4CE4-8592-C4F11981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0B3-4DF1-4D6D-B3F5-C903D750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81CC-94CC-4EF5-9B10-737857BD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2841-0930-4E76-879C-84F1816D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5713-64A3-4A12-BAA9-D7371AF8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5F56-21F3-4D27-9700-74460314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F7BC-408C-480A-894E-5A79B2C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CFE2-3636-4948-9B00-4E263B4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CAE-A058-47CE-9A2D-0D95FB5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76D-2243-444E-B82F-883C266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6013-8E6F-428A-B755-FF43A8AA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176-CD64-4573-BF7F-8B59E21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5CAF-8ADB-4782-8D6D-B7BE7DC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ACA-727E-40BB-A529-759CB790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124F-6682-4A41-95BD-1CF58A8F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976-4F5B-46B2-806D-6FE698CB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241-F17B-4A03-AB8E-D1DE22F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A17-F847-4C24-B60E-242A1644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23C-CE6C-4C02-9369-B8CBD9C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18C-E91E-4641-9CD9-6982210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3A0-38AA-4130-9234-36F316D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7A2-FE06-46BC-8431-34250A3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C9C2-9157-4AB6-935D-98624DB6B9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EEC-3FE0-4486-88AE-E4A66D1DF1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85800" y="38862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Giving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3" descr=""/>
          <p:cNvPicPr/>
          <p:nvPr/>
        </p:nvPicPr>
        <p:blipFill>
          <a:blip r:embed="rId4"/>
          <a:stretch/>
        </p:blipFill>
        <p:spPr>
          <a:xfrm>
            <a:off x="219240" y="2103480"/>
            <a:ext cx="5711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lowchart: Stored Data 4"/>
          <p:cNvSpPr/>
          <p:nvPr/>
        </p:nvSpPr>
        <p:spPr>
          <a:xfrm>
            <a:off x="3581280" y="2438280"/>
            <a:ext cx="5562720" cy="3810240"/>
          </a:xfrm>
          <a:prstGeom prst="flowChartOnlineStorag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FA59-6160-488E-AD05-9A84301A6D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Asking Questions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ecide what you would like to know more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Decide whom to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ink about different ways to ask your question.  Pick on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Pick the right time and place to ask your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Ask your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328F-07CC-4B0F-B7BA-BAAFC49D20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you practice the skill?  Where?  With wh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nother situation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ski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Pentagon 10"/>
          <p:cNvGrpSpPr/>
          <p:nvPr/>
        </p:nvGrpSpPr>
        <p:grpSpPr>
          <a:xfrm>
            <a:off x="938160" y="5230800"/>
            <a:ext cx="7804080" cy="1127160"/>
            <a:chOff x="938160" y="5230800"/>
            <a:chExt cx="7804080" cy="1127160"/>
          </a:xfrm>
        </p:grpSpPr>
        <p:pic>
          <p:nvPicPr>
            <p:cNvPr id="111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230800"/>
              <a:ext cx="7804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990720" y="5257800"/>
              <a:ext cx="74419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410080" y="4038480"/>
            <a:ext cx="31244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traight Connector 6"/>
          <p:cNvSpPr/>
          <p:nvPr/>
        </p:nvSpPr>
        <p:spPr>
          <a:xfrm>
            <a:off x="4267080" y="5943600"/>
            <a:ext cx="3810240" cy="0"/>
          </a:xfrm>
          <a:prstGeom prst="line">
            <a:avLst/>
          </a:prstGeom>
          <a:ln w="255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BD98-13C0-43CB-BE48-4FFF83A686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0061"/>
                </a:solidFill>
                <a:latin typeface="Tahoma"/>
                <a:ea typeface="Tahoma"/>
              </a:rPr>
              <a:t>Giving Feedback - Defin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for you to provide information to another person in an objective, non-threatening way about what you think or feel concerning what he or she has said or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31874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lowchart: Stored Data 4"/>
          <p:cNvSpPr/>
          <p:nvPr/>
        </p:nvSpPr>
        <p:spPr>
          <a:xfrm>
            <a:off x="3581280" y="2438280"/>
            <a:ext cx="5562720" cy="3810240"/>
          </a:xfrm>
          <a:prstGeom prst="flowChartOnlineStorag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D31E-AC69-484D-A935-36D339853A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10061"/>
                </a:solidFill>
                <a:latin typeface="Tahoma"/>
                <a:ea typeface="Tahoma"/>
              </a:rPr>
              <a:t>Giving Feedback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ide if you want to provide objective information to someone about his/her behavior, thoughts, or feelings.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ide what kind of information you wish to provid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 about different ways to give the information.  Pick one wa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k the right time and place to give feedbac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75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 the other person the information in an objective mann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4:05:56Z</dcterms:modified>
  <cp:revision>59</cp:revision>
  <dc:subject/>
  <dc:title>Paying Attention To Our Thinking</dc:title>
</cp:coreProperties>
</file>