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F51-698A-44FA-B280-2922B5A7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261-9354-4CCE-9164-3C7E09B1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4E9-6F18-4DE2-AE17-3495046C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5DC-2A49-4B0F-AE33-D4D30369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8DF2-30F1-4C6D-AEE6-1823CB22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6DF3-0B5B-49E5-923C-0213F40C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5D3E-30EE-461D-A7E2-4FEF928E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23DC-7268-411A-9094-CEDB9DA3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40CC-8BF4-44EE-A1C8-566A48E0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A9A0-5EFA-4ECA-B6A5-3733DE2F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047C-11DD-4F19-9064-8397C7A0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78A-8988-4FF0-B5A1-688BA65C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BA6C-EAB0-4716-9F6E-429F540B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4A2D-105A-4A2E-8AB3-E0496562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4B73-6502-47FB-A216-E4D238BD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BFD2-4EDC-47D2-B5B8-BE2508E5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2057-05E0-492D-8046-A5710FB1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5C3-F418-4604-AC3D-497EAB9C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5D19-B940-4E8D-9E8B-5C5C63D5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637-2B3F-4AB3-86E9-92B17CEB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657E-0FCB-4730-A1E8-4AB65755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135-F98A-4651-AC45-15A421D5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2B7-ED3D-4999-AB3C-2AFF15E9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D34-55B2-4352-9933-FB91E261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8F0B-3D59-4C0B-A574-457F682497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FD68-1DFE-4460-A2DC-F8F269D312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533520" y="28954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Cognitive Self-Chang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3" descr=""/>
          <p:cNvPicPr/>
          <p:nvPr/>
        </p:nvPicPr>
        <p:blipFill>
          <a:blip r:embed="rId4"/>
          <a:stretch/>
        </p:blipFill>
        <p:spPr>
          <a:xfrm>
            <a:off x="146160" y="1700280"/>
            <a:ext cx="5705280" cy="16095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609480" y="40384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Step 1 – Pay Attention to Our Thi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7b7b00"/>
                </a:solidFill>
                <a:latin typeface="Tahoma"/>
                <a:ea typeface="Tahoma"/>
              </a:rPr>
              <a:t>Objectivity – Definition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E5E2-79F6-4E9E-B597-C18E34EF8E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2362320" y="4572000"/>
            <a:ext cx="5333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ying your though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ctly as they g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ough your h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C:\Documents and Settings\BOP37837\Local Settings\Temporary Internet Files\Content.IE5\6KDAHNUR\MM900234761[1].gif"/>
          <p:cNvPicPr/>
          <p:nvPr/>
        </p:nvPicPr>
        <p:blipFill>
          <a:blip r:embed="rId1"/>
          <a:stretch/>
        </p:blipFill>
        <p:spPr>
          <a:xfrm flipH="1">
            <a:off x="990720" y="2133720"/>
            <a:ext cx="36576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720E-B732-4DFC-B257-AA67A6E141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7b7b00"/>
                </a:solidFill>
                <a:latin typeface="Tahoma"/>
                <a:ea typeface="Tahoma"/>
              </a:rPr>
              <a:t>Staying Objective …. …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e thoughts and feelings you ha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judge your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look at thoughts as right or wrong, good or ba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your thoughts, feelings, attitudes and beliefs as pure information about what was in your mind during a specific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9" descr="C:\Documents and Settings\BOP37837\Local Settings\Temporary Internet Files\Content.IE5\1EQKDATD\MP900262322[1].jpg"/>
          <p:cNvPicPr/>
          <p:nvPr/>
        </p:nvPicPr>
        <p:blipFill>
          <a:blip r:embed="rId1"/>
          <a:srcRect l="0" t="24405" r="43287" b="7065"/>
          <a:stretch/>
        </p:blipFill>
        <p:spPr>
          <a:xfrm>
            <a:off x="4648320" y="3657600"/>
            <a:ext cx="3749400" cy="295920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9C96-BBB6-4EB9-81AB-EA0C04D108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  <a:ea typeface="Tahoma"/>
              </a:rPr>
              <a:t>Thinking Report Proces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Brief, factual description of the sit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List the thoughts you had, just as you remember having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your feel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your attit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belief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4D07-D8FD-4D36-B4AE-765CB0EC14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Tahoma"/>
                <a:ea typeface="Tahoma"/>
              </a:rPr>
              <a:t>Definition of Attitudes </a:t>
            </a:r>
            <a:br>
              <a:rPr sz="4200"/>
            </a:br>
            <a:r>
              <a:rPr b="1" lang="en-US" sz="4200" spc="-1" strike="noStrike">
                <a:solidFill>
                  <a:srgbClr val="0070c0"/>
                </a:solidFill>
                <a:latin typeface="Tahoma"/>
                <a:ea typeface="Tahoma"/>
              </a:rPr>
              <a:t>and Belief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0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et of principles, values or op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entagon 6"/>
          <p:cNvSpPr/>
          <p:nvPr/>
        </p:nvSpPr>
        <p:spPr>
          <a:xfrm flipH="1">
            <a:off x="1371600" y="4724280"/>
            <a:ext cx="6781680" cy="990720"/>
          </a:xfrm>
          <a:custGeom>
            <a:avLst/>
            <a:gdLst>
              <a:gd name="textAreaLeft" fmla="*/ 360 w 6781680"/>
              <a:gd name="textAreaRight" fmla="*/ 6782400 w 67816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22" y="0"/>
                </a:lnTo>
                <a:lnTo>
                  <a:pt x="21600" y="10800"/>
                </a:lnTo>
                <a:lnTo>
                  <a:pt x="200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2"/>
          <a:stretch/>
        </p:blipFill>
        <p:spPr>
          <a:xfrm flipH="1">
            <a:off x="4495320" y="2971800"/>
            <a:ext cx="25146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2C91-2FB5-486C-9D34-3F0C06CCFB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ahoma"/>
                <a:ea typeface="Tahoma"/>
              </a:rPr>
              <a:t>Report your thoughts 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Tahoma"/>
                <a:ea typeface="Tahoma"/>
              </a:rPr>
              <a:t>and feelings exactly  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ful Hints for Staying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n’t jud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n’t bla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n’t make exc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n’t “second guess” (suggestions about how you should have or could have thoug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C:\Documents and Settings\BOP37837\Local Settings\Temporary Internet Files\Content.IE5\92NO5SJ1\MP900439393[1].jpg"/>
          <p:cNvPicPr/>
          <p:nvPr/>
        </p:nvPicPr>
        <p:blipFill>
          <a:blip r:embed="rId1"/>
          <a:stretch/>
        </p:blipFill>
        <p:spPr>
          <a:xfrm>
            <a:off x="5867280" y="4038480"/>
            <a:ext cx="3041640" cy="2514600"/>
          </a:xfrm>
          <a:prstGeom prst="rect">
            <a:avLst/>
          </a:prstGeom>
          <a:ln w="0">
            <a:noFill/>
          </a:ln>
        </p:spPr>
      </p:pic>
      <p:sp>
        <p:nvSpPr>
          <p:cNvPr id="15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AC32-9076-48F7-AD2B-139698900E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Tahoma"/>
                <a:ea typeface="Tahoma"/>
              </a:rPr>
              <a:t>Homewor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time when you broke a rule or hurt some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thinking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the thinking tha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to break the rule or hurt some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1143000" y="464040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The situation can be a time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you violated the law or broke a rul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or when you hurt someone phys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or emoti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9EF4-D302-45BE-BD51-F89BC33CBD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ahoma"/>
                <a:ea typeface="Tahoma"/>
              </a:rPr>
              <a:t>Cognitive Self Change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ay Attention to Our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ecognize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 New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C:\Documents and Settings\BOP37837\Local Settings\Temporary Internet Files\Content.IE5\92NO5SJ1\MP900439332[1].jpg"/>
          <p:cNvPicPr/>
          <p:nvPr/>
        </p:nvPicPr>
        <p:blipFill>
          <a:blip r:embed="rId1"/>
          <a:srcRect l="32003" t="0" r="0" b="0"/>
          <a:stretch/>
        </p:blipFill>
        <p:spPr>
          <a:xfrm>
            <a:off x="5867280" y="2971800"/>
            <a:ext cx="28195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FAF4-5724-4AD9-A4EF-E197713BB9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Homework Review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6" name="Pentagon 10"/>
          <p:cNvGrpSpPr/>
          <p:nvPr/>
        </p:nvGrpSpPr>
        <p:grpSpPr>
          <a:xfrm>
            <a:off x="938160" y="5383080"/>
            <a:ext cx="6889680" cy="974880"/>
            <a:chOff x="938160" y="5383080"/>
            <a:chExt cx="6889680" cy="974880"/>
          </a:xfrm>
        </p:grpSpPr>
        <p:pic>
          <p:nvPicPr>
            <p:cNvPr id="117" name="Pentagon 10" descr=""/>
            <p:cNvPicPr/>
            <p:nvPr/>
          </p:nvPicPr>
          <p:blipFill>
            <a:blip r:embed="rId1"/>
            <a:stretch/>
          </p:blipFill>
          <p:spPr>
            <a:xfrm>
              <a:off x="938160" y="5383080"/>
              <a:ext cx="688968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990720" y="5410080"/>
              <a:ext cx="656568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5715000" y="4572000"/>
            <a:ext cx="2346480" cy="18399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609480" y="1752480"/>
            <a:ext cx="7772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briefly on your example of a conflict with another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t least one thought and one feeling you were having at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n attitude or belief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part of your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BCD2-DAC2-48B2-9FA8-00565D9271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ahoma"/>
                <a:ea typeface="Tahoma"/>
              </a:rPr>
              <a:t>Cognitive Self Change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Arial"/>
              </a:rPr>
              <a:t>Step 1 </a:t>
            </a:r>
            <a:r>
              <a:rPr b="0" lang="en-US" sz="3200" spc="-1" strike="noStrike" u="sng">
                <a:solidFill>
                  <a:srgbClr val="7030a0"/>
                </a:solidFill>
                <a:uFillTx/>
                <a:latin typeface="Arial"/>
              </a:rPr>
              <a:t>- Pay Attention to Our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ecognize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 New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C:\Documents and Settings\BOP37837\Local Settings\Temporary Internet Files\Content.IE5\92NO5SJ1\MP900439332[1].jpg"/>
          <p:cNvPicPr/>
          <p:nvPr/>
        </p:nvPicPr>
        <p:blipFill>
          <a:blip r:embed="rId1"/>
          <a:srcRect l="32003" t="0" r="0" b="0"/>
          <a:stretch/>
        </p:blipFill>
        <p:spPr>
          <a:xfrm>
            <a:off x="5867280" y="2971800"/>
            <a:ext cx="28195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91FD-812D-4526-8EB5-0E72D917C1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Tahoma"/>
                <a:ea typeface="Tahoma"/>
              </a:rPr>
              <a:t>Parts of a Thinking Repo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1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what happe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ick with the fa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2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every thought you can reme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act words that were in your mind at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3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all the feelings you reme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4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beliefs you held in this situ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eliefs are rules, principles and opinions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that you carry into lots of different situ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5"/>
          <p:cNvSpPr/>
          <p:nvPr/>
        </p:nvSpPr>
        <p:spPr>
          <a:xfrm>
            <a:off x="5105520" y="5943600"/>
            <a:ext cx="3809880" cy="0"/>
          </a:xfrm>
          <a:prstGeom prst="line">
            <a:avLst/>
          </a:prstGeom>
          <a:ln w="255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rcRect l="0" t="0" r="53718" b="0"/>
          <a:stretch/>
        </p:blipFill>
        <p:spPr>
          <a:xfrm flipH="1">
            <a:off x="7314840" y="2746440"/>
            <a:ext cx="1684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a600a6"/>
                </a:solidFill>
                <a:latin typeface="Tahoma"/>
                <a:ea typeface="Tahoma"/>
              </a:rPr>
              <a:t>Thinking Repo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120" y="1600200"/>
          <a:ext cx="7924680" cy="4241880"/>
        </p:xfrm>
        <a:graphic>
          <a:graphicData uri="http://schemas.openxmlformats.org/drawingml/2006/table">
            <a:tbl>
              <a:tblPr/>
              <a:tblGrid>
                <a:gridCol w="2514600"/>
                <a:gridCol w="541008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ar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the facts of what happe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was involved and what was said and done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a600a6"/>
                </a:solidFill>
                <a:latin typeface="Tahoma"/>
                <a:ea typeface="Tahoma"/>
              </a:rPr>
              <a:t>Thinking Repo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14400" y="1600200"/>
          <a:ext cx="7772400" cy="3641760"/>
        </p:xfrm>
        <a:graphic>
          <a:graphicData uri="http://schemas.openxmlformats.org/drawingml/2006/table">
            <a:tbl>
              <a:tblPr/>
              <a:tblGrid>
                <a:gridCol w="2362320"/>
                <a:gridCol w="5410080"/>
              </a:tblGrid>
              <a:tr h="69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ar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gh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every thought you can rem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the exact words that were in your mind at the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a600a6"/>
                </a:solidFill>
                <a:latin typeface="Tahoma"/>
                <a:ea typeface="Tahoma"/>
              </a:rPr>
              <a:t>Thinking Repo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14400" y="1600200"/>
          <a:ext cx="7772400" cy="4718160"/>
        </p:xfrm>
        <a:graphic>
          <a:graphicData uri="http://schemas.openxmlformats.org/drawingml/2006/table">
            <a:tbl>
              <a:tblPr/>
              <a:tblGrid>
                <a:gridCol w="2362320"/>
                <a:gridCol w="5410080"/>
              </a:tblGrid>
              <a:tr h="69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gh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art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ing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all the feelings you remember ha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words that seem right to yo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ings can be either emotions or bodily sensations, or 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a600a6"/>
                </a:solidFill>
                <a:latin typeface="Tahoma"/>
                <a:ea typeface="Tahoma"/>
              </a:rPr>
              <a:t>Thinking Repo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14400" y="1600200"/>
          <a:ext cx="7772400" cy="4430880"/>
        </p:xfrm>
        <a:graphic>
          <a:graphicData uri="http://schemas.openxmlformats.org/drawingml/2006/table">
            <a:tbl>
              <a:tblPr/>
              <a:tblGrid>
                <a:gridCol w="2362320"/>
                <a:gridCol w="5410080"/>
              </a:tblGrid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gh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ing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art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tudes/Belief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your attitudes and belief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tudes and beliefs are rules, principles, values, or ways of thinking that you carry into lots of different situ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12T15:08:56Z</dcterms:modified>
  <cp:revision>125</cp:revision>
  <dc:subject/>
  <dc:title>Paying Attention To Our Thinking</dc:title>
</cp:coreProperties>
</file>