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2B5-A359-4937-B31E-5B5A97EE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465-EE78-4639-92BC-9BC2A7F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002-0B0E-414A-9453-5B2C69B0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DEE-9316-4CC9-A96C-7A64058C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F5C-E11A-4882-9787-C378A8D2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FEF4-B163-4846-A743-5FEC6613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C012-D95C-4F6F-A931-4316E602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ED79-2585-4B75-8FED-D94E9B03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B98-E683-46C0-BA7D-BD57A1F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6077-E81D-4979-88D0-E075187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F71F-27A7-431C-8840-1EA3FFA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2DA-3A60-4A44-8BE0-1BBEA7F1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0CE-31C3-412B-8207-3E03E54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E23-CA57-4ABE-B765-99D46BD0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B09B-B7C0-4BBA-AA8D-86321C42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7AB2-49A3-418F-BD00-686D7E29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AC79-2E41-4E38-BBE8-D305BACB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2D5-4C1A-4C93-ABA1-F90F99D1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021-C222-4F3E-9E4C-B6578B4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8C8-D4FB-4F2C-AD6C-F380DF39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DF8-BBED-4407-B259-1A6B4E2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F00-4B72-41E1-BE41-748D7FA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06C-95B0-4285-A1DA-2E301E3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121-9A01-4443-90A6-C65B60E5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BF93-DC5B-4BA4-83E0-320439BF1F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76A1-9A65-4925-94C0-3F7D64F47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219240" y="1646280"/>
            <a:ext cx="6851520" cy="217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533520" y="327672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Making a Compl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C7B4-B006-41FF-816F-34EB303D87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Tahoma"/>
              </a:rPr>
              <a:t>Understanding the Feelings of Others - Defini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lity to observe another person and identify what they may be feeling by looking at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their 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listening t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y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BOP37837\Local Settings\Temporary Internet Files\Content.IE5\LT4FLO8V\MP900443187[1].jpg"/>
          <p:cNvPicPr/>
          <p:nvPr/>
        </p:nvPicPr>
        <p:blipFill>
          <a:blip r:embed="rId1"/>
          <a:srcRect l="42857" t="0" r="0" b="0"/>
          <a:stretch/>
        </p:blipFill>
        <p:spPr>
          <a:xfrm>
            <a:off x="1371600" y="3733920"/>
            <a:ext cx="2666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1E8-F31C-497C-9EAC-17D3F2BFE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Understanding the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Feelings of Other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tch the oth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ts val="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Listen to what the person is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igure out what the person might be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ink about ways to show you understand what he/she is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cide on the best way and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6E1F-C72E-40BD-863A-BB267E6922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3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5800" y="15238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ituation where you practiced th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“when you did the skill, where, and with wh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nking check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omework 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answe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questions 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 s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5AF9-78DE-40F2-A659-F2E020CE8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Pentagon 10"/>
          <p:cNvGrpSpPr/>
          <p:nvPr/>
        </p:nvGrpSpPr>
        <p:grpSpPr>
          <a:xfrm>
            <a:off x="5052960" y="5151600"/>
            <a:ext cx="3919680" cy="1126800"/>
            <a:chOff x="5052960" y="5151600"/>
            <a:chExt cx="3919680" cy="1126800"/>
          </a:xfrm>
        </p:grpSpPr>
        <p:pic>
          <p:nvPicPr>
            <p:cNvPr id="119" name="Pentagon 10" descr=""/>
            <p:cNvPicPr/>
            <p:nvPr/>
          </p:nvPicPr>
          <p:blipFill>
            <a:blip r:embed="rId1"/>
            <a:stretch/>
          </p:blipFill>
          <p:spPr>
            <a:xfrm>
              <a:off x="5052960" y="5151600"/>
              <a:ext cx="39196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05520" y="5181480"/>
              <a:ext cx="3555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324480" y="4724280"/>
            <a:ext cx="2286000" cy="1792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Home Work Review cont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44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to follow each step of the skill?  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other situation where you will use the skill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60EC-6495-4AD6-AFFC-5CEC79CB1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en-US" sz="4200" spc="-1" strike="noStrike">
                <a:solidFill>
                  <a:srgbClr val="77773c"/>
                </a:solidFill>
                <a:latin typeface="Tahoma"/>
                <a:ea typeface="Tahoma"/>
              </a:rPr>
              <a:t>Making a Complaint - Defin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ay to decide what you don’t like and whom to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 the individual about the compl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998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o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 what m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 mutua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able altern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86493877.jpg"/>
          <p:cNvPicPr/>
          <p:nvPr/>
        </p:nvPicPr>
        <p:blipFill>
          <a:blip r:embed="rId1"/>
          <a:stretch/>
        </p:blipFill>
        <p:spPr>
          <a:xfrm>
            <a:off x="5105520" y="2819520"/>
            <a:ext cx="30877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2B83-FF74-44F6-9D38-FF1F739690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773c"/>
                </a:solidFill>
                <a:latin typeface="Tahoma"/>
                <a:ea typeface="Tahoma"/>
              </a:rPr>
              <a:t>Making a Complaint 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61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Decide what your complain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Decide whom to complai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Tell that person your compl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Tell that person what you 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ke done about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 Ask how he/she feels about 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ve 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15:54:54Z</dcterms:modified>
  <cp:revision>68</cp:revision>
  <dc:subject/>
  <dc:title>Paying Attention To Our Thinking</dc:title>
</cp:coreProperties>
</file>