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6.wmf" ContentType="image/x-wmf"/>
  <Override PartName="/ppt/media/image11.wmf" ContentType="image/x-wmf"/>
  <Override PartName="/ppt/media/image3.png" ContentType="image/png"/>
  <Override PartName="/ppt/media/image20.jpeg" ContentType="image/jpeg"/>
  <Override PartName="/ppt/media/image7.wmf" ContentType="image/x-wmf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3F1F-4145-4F02-820C-19A0F8042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443D-BCDF-4CA9-BA43-70F642C13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68CE-16A7-4B0A-B455-C864C09DA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8D1F-0EAC-4C55-9F9C-DB6546B5B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0B252-1752-43DA-9450-0D940E9A9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B631A-69BC-4CDB-9E10-9C64B54CF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385BE-DD7C-41C9-AE89-6C7306CC9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13DD5-BE94-452B-9829-E3619BE92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76EA5-31ED-4CE5-8492-A7D9B7876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E1DDB-2805-4FC2-9E29-F9B7F6595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B7CEC-5C6B-41C7-8A9A-9F36AB23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1D1B-E047-460F-BDF0-B484FD4AD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59594-AD7F-4693-A125-3731277A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6EEA4-AE33-4247-8E00-ABFFE23E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D7C55-AE63-4338-8364-AF79D7122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618C7-4646-453C-90D2-70FB7C9A9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6D10C-37D6-4BAB-8A34-F84697191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238E-A39B-4ECA-823A-46CF48D12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B5B7-8B32-4393-87F8-995DBCEE8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DDAF-6B67-4267-88EF-80C43490C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D42E-7C0D-4F45-BB18-DF25C179E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8863-6FF0-4541-980B-82903066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FFB3-F214-44A5-93B5-597152BA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809B-A5FC-428A-B9E6-0BDDB3F8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A5E3-8A03-4E30-B395-7CE795D00FC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D5F8B-6642-4DBD-9F6E-7364AA78532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Lighter swirl 1.jpg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7"/>
          <p:cNvSpPr/>
          <p:nvPr/>
        </p:nvSpPr>
        <p:spPr>
          <a:xfrm>
            <a:off x="0" y="0"/>
            <a:ext cx="8763120" cy="1828800"/>
          </a:xfrm>
          <a:prstGeom prst="rect">
            <a:avLst/>
          </a:prstGeom>
          <a:solidFill>
            <a:srgbClr val="ffffe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Rectangle 3" descr=""/>
          <p:cNvPicPr/>
          <p:nvPr/>
        </p:nvPicPr>
        <p:blipFill>
          <a:blip r:embed="rId2"/>
          <a:stretch/>
        </p:blipFill>
        <p:spPr>
          <a:xfrm>
            <a:off x="66600" y="1725480"/>
            <a:ext cx="4950000" cy="2017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"/>
          <p:cNvPicPr/>
          <p:nvPr/>
        </p:nvPicPr>
        <p:blipFill>
          <a:blip r:embed="rId3"/>
          <a:stretch/>
        </p:blipFill>
        <p:spPr>
          <a:xfrm>
            <a:off x="1752480" y="609480"/>
            <a:ext cx="990720" cy="9828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6"/>
          <p:cNvSpPr/>
          <p:nvPr/>
        </p:nvSpPr>
        <p:spPr>
          <a:xfrm>
            <a:off x="430920" y="3276720"/>
            <a:ext cx="6980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Swis721 BlkEx BT"/>
              </a:rPr>
              <a:t>Problem Solving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Swis721 BlkEx BT"/>
              </a:rPr>
              <a:t>Skill 2 – State th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"/>
          <p:cNvPicPr/>
          <p:nvPr/>
        </p:nvPicPr>
        <p:blipFill>
          <a:blip r:embed="rId4"/>
          <a:stretch/>
        </p:blipFill>
        <p:spPr>
          <a:xfrm>
            <a:off x="3200400" y="380880"/>
            <a:ext cx="3989520" cy="13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320FA-27B9-4B92-B6EF-8528861C8B1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Swis721 BlkEx BT"/>
              </a:rPr>
              <a:t>Identify the step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777240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supervisor likes to put me down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told me to redo the last job he gave me in front of the other workers,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my risk is to react by telling him off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5791320" y="6172200"/>
            <a:ext cx="27432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upervisor example – Statem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"/>
          <p:cNvPicPr/>
          <p:nvPr/>
        </p:nvPicPr>
        <p:blipFill>
          <a:blip r:embed="rId1"/>
          <a:stretch/>
        </p:blipFill>
        <p:spPr>
          <a:xfrm>
            <a:off x="838080" y="4343400"/>
            <a:ext cx="289584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F8B80-3B01-4A9D-9288-ED57B799489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Swis721 BlkEx BT"/>
              </a:rPr>
              <a:t>What steps are missing?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 can’t stand taking my medication so I’m going to stop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5943600" y="5791320"/>
            <a:ext cx="27432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cation example – Statem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8" descr=""/>
          <p:cNvPicPr/>
          <p:nvPr/>
        </p:nvPicPr>
        <p:blipFill>
          <a:blip r:embed="rId1"/>
          <a:stretch/>
        </p:blipFill>
        <p:spPr>
          <a:xfrm>
            <a:off x="2590920" y="3124080"/>
            <a:ext cx="2819160" cy="34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06A0C-7A2A-4E4F-AD4C-4AF5B117157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Swis721 BlkEx BT"/>
              </a:rPr>
              <a:t>Identify the steps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 think the medication I am on is taking away all of my energy because I fell asleep during the day, and my risk is to stop taking my medic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5943600" y="5791320"/>
            <a:ext cx="27432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cation example – Statem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6" descr=""/>
          <p:cNvPicPr/>
          <p:nvPr/>
        </p:nvPicPr>
        <p:blipFill>
          <a:blip r:embed="rId1"/>
          <a:stretch/>
        </p:blipFill>
        <p:spPr>
          <a:xfrm>
            <a:off x="1219320" y="3886200"/>
            <a:ext cx="20685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22948-1633-4CD3-917C-43DF26B3A6A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Swis721 BlkEx BT"/>
              </a:rPr>
              <a:t>What steps are missing?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y friend is no longer my friend and he will certainly figure that out the next time I see him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5943600" y="5791320"/>
            <a:ext cx="27432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riend example – Statem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8" descr=""/>
          <p:cNvPicPr/>
          <p:nvPr/>
        </p:nvPicPr>
        <p:blipFill>
          <a:blip r:embed="rId1"/>
          <a:stretch/>
        </p:blipFill>
        <p:spPr>
          <a:xfrm flipH="1">
            <a:off x="914400" y="3886200"/>
            <a:ext cx="365760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9A715-CA0B-4356-93AB-CD8B0A6BE5C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Swis721 BlkEx BT"/>
              </a:rPr>
              <a:t>Identify the steps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 feel disrespected because my friend did not show up at the time we set for the meeting, and my risk is to make fun of him next time I see him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5943600" y="5791320"/>
            <a:ext cx="27432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riend example – Statem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"/>
          <p:cNvPicPr/>
          <p:nvPr/>
        </p:nvPicPr>
        <p:blipFill>
          <a:blip r:embed="rId1"/>
          <a:stretch/>
        </p:blipFill>
        <p:spPr>
          <a:xfrm flipH="1">
            <a:off x="1447560" y="3789360"/>
            <a:ext cx="3352680" cy="27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7BBFA-F9AA-49F9-A196-025D02E5339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Swis721 BlkEx BT"/>
              </a:rPr>
              <a:t>What steps are missing?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56386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tores charg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way too much mone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for what things a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worth so you gott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do what you gotta’do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5943600" y="5791320"/>
            <a:ext cx="27432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ney example – Statem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1"/>
          <a:stretch/>
        </p:blipFill>
        <p:spPr>
          <a:xfrm>
            <a:off x="6095880" y="1066680"/>
            <a:ext cx="149868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58989-F374-41D8-A91B-9E94C431D3A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Swis721 BlkEx BT"/>
              </a:rPr>
              <a:t>Identify the steps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 feel frustrated because I don’t have enough money to buy something I want, and my risk is to steal it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5943600" y="5791320"/>
            <a:ext cx="27432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ney example – Statem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6" descr=""/>
          <p:cNvPicPr/>
          <p:nvPr/>
        </p:nvPicPr>
        <p:blipFill>
          <a:blip r:embed="rId1"/>
          <a:stretch/>
        </p:blipFill>
        <p:spPr>
          <a:xfrm>
            <a:off x="3733920" y="3276720"/>
            <a:ext cx="297180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C073B-893B-48AF-85DD-A405178C447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Tahoma"/>
                <a:ea typeface="Tahoma"/>
              </a:rPr>
              <a:t>Homework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79" name="Picture 6" descr="C:\Documents and Settings\BOP37837\Local Settings\Temporary Internet Files\Content.IE5\92NO5SJ1\MP900439393[1].jpg"/>
          <p:cNvPicPr/>
          <p:nvPr/>
        </p:nvPicPr>
        <p:blipFill>
          <a:blip r:embed="rId1"/>
          <a:stretch/>
        </p:blipFill>
        <p:spPr>
          <a:xfrm>
            <a:off x="990720" y="4876920"/>
            <a:ext cx="3367080" cy="198108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3"/>
          <p:cNvSpPr/>
          <p:nvPr/>
        </p:nvSpPr>
        <p:spPr>
          <a:xfrm>
            <a:off x="1066680" y="1523880"/>
            <a:ext cx="7772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real life problem situation, practice the first 2 skills of problem solv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’re not able to do the skills while the problem is actually happening, then write out how you could have done the skills, or could do them next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CBF92-D0F6-4A47-869E-F97EA39044D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70c0"/>
                </a:solidFill>
                <a:latin typeface="Tahoma"/>
              </a:rPr>
              <a:t>Homework Review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05" name="Pentagon 10"/>
          <p:cNvGrpSpPr/>
          <p:nvPr/>
        </p:nvGrpSpPr>
        <p:grpSpPr>
          <a:xfrm>
            <a:off x="938160" y="5230800"/>
            <a:ext cx="7804080" cy="1127160"/>
            <a:chOff x="938160" y="5230800"/>
            <a:chExt cx="7804080" cy="1127160"/>
          </a:xfrm>
        </p:grpSpPr>
        <p:pic>
          <p:nvPicPr>
            <p:cNvPr id="106" name="Pentagon 10" descr=""/>
            <p:cNvPicPr/>
            <p:nvPr/>
          </p:nvPicPr>
          <p:blipFill>
            <a:blip r:embed="rId1"/>
            <a:stretch/>
          </p:blipFill>
          <p:spPr>
            <a:xfrm>
              <a:off x="938160" y="5230800"/>
              <a:ext cx="780408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990720" y="5257800"/>
              <a:ext cx="7441920" cy="10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Picture 8" descr="C:\Documents and Settings\BOP37837\Local Settings\Temporary Internet Files\Content.IE5\6KDAHNUR\MC900239929[1].wmf"/>
          <p:cNvPicPr/>
          <p:nvPr/>
        </p:nvPicPr>
        <p:blipFill>
          <a:blip r:embed="rId2"/>
          <a:stretch/>
        </p:blipFill>
        <p:spPr>
          <a:xfrm>
            <a:off x="5410080" y="4336920"/>
            <a:ext cx="2743200" cy="215136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3"/>
          <p:cNvSpPr/>
          <p:nvPr/>
        </p:nvSpPr>
        <p:spPr>
          <a:xfrm>
            <a:off x="914400" y="1752480"/>
            <a:ext cx="70866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iefly tell us the problem situation you ch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iefly explain how you practiced the steps of stop and th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oblem Solving – </a:t>
            </a:r>
            <a:br>
              <a:rPr sz="4200"/>
            </a:b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kill 1: Stop and Think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14040" y="1752480"/>
            <a:ext cx="380988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1: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Stop!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ay attention to your warning sig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k thou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k feel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257440" y="1752480"/>
            <a:ext cx="342900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5960" indent="-291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2: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ink!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duce your ris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qui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m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MCj03236140000[1]"/>
          <p:cNvPicPr/>
          <p:nvPr/>
        </p:nvPicPr>
        <p:blipFill>
          <a:blip r:embed="rId1"/>
          <a:stretch/>
        </p:blipFill>
        <p:spPr>
          <a:xfrm>
            <a:off x="6858000" y="152280"/>
            <a:ext cx="1066680" cy="10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6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C33C8-0C6D-4332-9AB7-8637F654DAE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13100"/>
                </a:solidFill>
                <a:latin typeface="Swis721 BlkEx BT"/>
              </a:rPr>
              <a:t>Types of Problem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your face problems -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tuations where you have to act immediate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 to think problems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-  Situations where you do not have to take immediate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9" descr="MCj00787110000[1]"/>
          <p:cNvPicPr/>
          <p:nvPr/>
        </p:nvPicPr>
        <p:blipFill>
          <a:blip r:embed="rId1"/>
          <a:stretch/>
        </p:blipFill>
        <p:spPr>
          <a:xfrm>
            <a:off x="6629400" y="4267080"/>
            <a:ext cx="1454040" cy="22892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"/>
          <p:cNvPicPr/>
          <p:nvPr/>
        </p:nvPicPr>
        <p:blipFill>
          <a:blip r:embed="rId2"/>
          <a:stretch/>
        </p:blipFill>
        <p:spPr>
          <a:xfrm>
            <a:off x="1447920" y="4038480"/>
            <a:ext cx="152388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B644D-9827-4BC0-973F-FCDCB41BF23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5345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tep 1:  Identify a warning 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tep 2:  Describe what happen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bjecti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tep 3:  Identify a risk reac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rcRect l="47511" t="0" r="0" b="0"/>
          <a:stretch/>
        </p:blipFill>
        <p:spPr>
          <a:xfrm>
            <a:off x="5715000" y="3505320"/>
            <a:ext cx="2743200" cy="31114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13100"/>
                </a:solidFill>
                <a:latin typeface="Swis721 BlkEx BT"/>
              </a:rPr>
              <a:t>Problem Solving – </a:t>
            </a:r>
            <a:br>
              <a:rPr sz="3600"/>
            </a:br>
            <a:r>
              <a:rPr b="0" lang="en-US" sz="3600" spc="-1" strike="noStrike">
                <a:solidFill>
                  <a:srgbClr val="313100"/>
                </a:solidFill>
                <a:latin typeface="Swis721 BlkEx BT"/>
              </a:rPr>
              <a:t>Skill 2: State the Problem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13100"/>
                </a:solidFill>
                <a:latin typeface="Swis721 BlkEx BT"/>
              </a:rPr>
              <a:t>State the Proble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14400" y="1599840"/>
            <a:ext cx="73152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57560" indent="-4575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 Start with “I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 Objective description of sit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 Identify reac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761760" y="4495680"/>
            <a:ext cx="79246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 (think or feel)  ________  because _________________ , and my risk reaction is ________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1EB9B-D9A9-4639-9935-81F6D213691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36A10-BF22-4624-BA72-E8496E90C95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Swis721 BlkEx BT"/>
              </a:rPr>
              <a:t>Reaction to Roste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read the list of people who made the team and my name wasn’t there.  I felt angry, embarrassed and disappointed. I felt my head start to throb, my mouth got dry and my muscles got t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0" descr=""/>
          <p:cNvPicPr/>
          <p:nvPr/>
        </p:nvPicPr>
        <p:blipFill>
          <a:blip r:embed="rId1"/>
          <a:stretch/>
        </p:blipFill>
        <p:spPr>
          <a:xfrm flipH="1">
            <a:off x="6172200" y="4343400"/>
            <a:ext cx="12333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9E861-1DC4-46CE-B16A-606BA141475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0033"/>
                </a:solidFill>
                <a:latin typeface="Swis721 BlkEx BT"/>
              </a:rPr>
              <a:t>Father’s Reaction to Daughter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alked into the room and saw her using.  I felt like waves of heat  were flaming around me and my insides started shaking.  I clenched my jaw and my fists.  I thought, “My daughter is wasting her life.” “She must be selling to have money to do thi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tretch/>
        </p:blipFill>
        <p:spPr>
          <a:xfrm flipH="1">
            <a:off x="5562360" y="4730760"/>
            <a:ext cx="178884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6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0D04D-26B7-42D2-AEEB-3AC5750FF9E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0" lang="en-US" sz="3600" spc="-1" strike="noStrike">
                <a:solidFill>
                  <a:srgbClr val="330033"/>
                </a:solidFill>
                <a:latin typeface="Swis721 BlkEx BT"/>
              </a:rPr>
              <a:t>Which steps are missing?</a:t>
            </a:r>
            <a:br>
              <a:rPr sz="3800"/>
            </a:br>
            <a:br>
              <a:rPr sz="3800"/>
            </a:b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6960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You give me a hard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nd I’ll give you a h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im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019560" y="6248160"/>
            <a:ext cx="2438280" cy="3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upervisor example – Statemen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"/>
          <p:cNvPicPr/>
          <p:nvPr/>
        </p:nvPicPr>
        <p:blipFill>
          <a:blip r:embed="rId1"/>
          <a:stretch/>
        </p:blipFill>
        <p:spPr>
          <a:xfrm>
            <a:off x="2895480" y="3657600"/>
            <a:ext cx="281952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15:14:12Z</dcterms:created>
  <dc:creator>bop1998</dc:creator>
  <dc:description/>
  <dc:language>en-US</dc:language>
  <cp:lastModifiedBy>BOP37849</cp:lastModifiedBy>
  <dcterms:modified xsi:type="dcterms:W3CDTF">2011-12-12T16:34:14Z</dcterms:modified>
  <cp:revision>75</cp:revision>
  <dc:subject/>
  <dc:title>Paying Attention To Our Thinking</dc:title>
</cp:coreProperties>
</file>