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C1A-576E-422B-AFA5-ED1D4C93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85E-FF38-4E72-B12A-78F1F39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2C5-FBC4-4999-ACDD-F4646746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1AD-CF0F-4942-B8A0-D74C574C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425-028D-4392-9E61-71101E95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CBEE-64B4-4C3B-B3D9-F92F1123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628-C67F-49FC-994E-2F7FDB95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26E-8CEC-408C-9D52-0BA29621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91D-F423-4BF0-BF04-2E41C75E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E3F5-DC00-4D7E-9231-35B62CA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4BE-8862-4924-B5BE-FBD95BC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2BF-EE47-4F64-83B5-474F0991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E1B8-3DFC-4B73-B064-F614409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A42-6F91-4738-813E-0F0D97C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343B-9C50-4A1F-B86C-FAD45D2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39EF-113F-4220-91E1-645660BE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8BC1-DF02-46AD-AD7B-CCF307B0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63E-BAB7-4F56-A691-D016599C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26F-58CE-46C7-B9BC-66F00CF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4EA-CB86-44E0-BCC3-60405FD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FE4-0D1B-4AED-A1F2-188BFE15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E56-D7D5-4060-81AF-2696AC7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591-C72F-47FA-AEB1-F5D5FBE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C05-8CEF-4286-A194-E180237C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BAD1-EDED-4A37-B868-4EDEEB19CD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9B60-23C5-4312-A55B-E870CA03D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755640" y="1878120"/>
            <a:ext cx="4943520" cy="201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1241640" y="3429000"/>
            <a:ext cx="506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s 1 – 3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371-E7C9-4072-AC08-44F577C3ED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5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Homework Review – 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Apply Problem Solving Skills 1-2-3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Pentagon 10"/>
          <p:cNvGrpSpPr/>
          <p:nvPr/>
        </p:nvGrpSpPr>
        <p:grpSpPr>
          <a:xfrm>
            <a:off x="5126040" y="5230800"/>
            <a:ext cx="3616200" cy="1127160"/>
            <a:chOff x="5126040" y="5230800"/>
            <a:chExt cx="3616200" cy="1127160"/>
          </a:xfrm>
        </p:grpSpPr>
        <p:pic>
          <p:nvPicPr>
            <p:cNvPr id="106" name="Pentagon 10" descr=""/>
            <p:cNvPicPr/>
            <p:nvPr/>
          </p:nvPicPr>
          <p:blipFill>
            <a:blip r:embed="rId1"/>
            <a:stretch/>
          </p:blipFill>
          <p:spPr>
            <a:xfrm>
              <a:off x="5126040" y="5230800"/>
              <a:ext cx="36162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181480" y="5257800"/>
              <a:ext cx="325116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553080" y="5029200"/>
            <a:ext cx="1957680" cy="153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28600" y="1684440"/>
            <a:ext cx="77724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 backgrou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 are your stop and think warning signs?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you state the probl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your positive and realistic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’s thoughts &amp; feel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BCA-B318-4B44-865D-1DF736752E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 your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Cj03236140000[1]"/>
          <p:cNvPicPr/>
          <p:nvPr/>
        </p:nvPicPr>
        <p:blipFill>
          <a:blip r:embed="rId1"/>
          <a:stretch/>
        </p:blipFill>
        <p:spPr>
          <a:xfrm>
            <a:off x="5867280" y="3124080"/>
            <a:ext cx="2622600" cy="2625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1: Stop and Think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A21-AC53-4C13-92F5-FE8A56306F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1:  Identify a warning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2:  Describe what hap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3:  Identify a risk re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47511" t="0" r="0" b="0"/>
          <a:stretch/>
        </p:blipFill>
        <p:spPr>
          <a:xfrm>
            <a:off x="5715000" y="3505320"/>
            <a:ext cx="2743200" cy="3111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2: State the Probl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DC02-7886-4A29-8139-31402B6241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3100"/>
                </a:solidFill>
                <a:latin typeface="Swis721 BlkEx BT"/>
              </a:rPr>
              <a:t>Problem Solving –  </a:t>
            </a:r>
            <a:br>
              <a:rPr sz="3200"/>
            </a:br>
            <a:r>
              <a:rPr b="0" lang="en-US" sz="3200" spc="-1" strike="noStrike">
                <a:solidFill>
                  <a:srgbClr val="313100"/>
                </a:solidFill>
                <a:latin typeface="Swis721 BlkEx BT"/>
              </a:rPr>
              <a:t>Skill 3: Set a Goal and Gather Informa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086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a pos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alistic 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other person’s thoughts and feelin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4573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40:16Z</dcterms:modified>
  <cp:revision>45</cp:revision>
  <dc:subject/>
  <dc:title>Paying Attention To Our Thinking</dc:title>
</cp:coreProperties>
</file>